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4C75-211E-4192-B9A2-833E36154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9D5C-2E5B-4CBE-BBAA-4B4EBF329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0A91-556D-41CA-BD5C-B52989CB2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B811-8B6B-4F93-8896-5AE366A84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02DB-34A2-4C11-B74A-F32096A3C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556E-70E6-428A-B3D0-4BEC9382B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28D8-A264-4566-9A66-75086FA79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417A-CF47-4B87-9ECF-D3B33471E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156E-4B15-4A8F-9C54-9018E2A93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1603-757E-4B8F-B81E-1B9720B35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2FA5-E477-44DA-AAFA-13A2A94F7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CEF8-4D1D-438A-B035-98238CEA5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20ED-DE51-4987-B860-F103B2964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45CC-1413-4C06-B186-7F6FEC1F2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A5E5-3BFE-4154-AF64-6670F20CA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BFAC-927F-40A2-B896-0AFD8BD29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B0F3-FC13-4F09-8CEB-93DE6EC21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8934-B109-4441-A0A7-0CA0B5FCD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617B-ED5C-42D4-BA94-8423FB59A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666D-D64F-4788-8828-CCAD6C672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D9E7-62C0-4199-BC42-2FF990D44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6647-A901-4AEC-A265-73E9A35F3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44DB-4C50-40D4-886A-A9094DF5D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FDD9-3433-47F3-85C3-2DB0E103B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C1C4-F423-4C2A-8134-64BBEE69F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06971-4F6D-4A04-ABA6-B33DE9865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932F1-4116-4FA5-BB35-EED6C87A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25A6E2-1C12-4798-B2E4-E02821EED8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75905-4902-4448-8DEF-1BCDEAA18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3671E6-2183-4C72-B526-0B405133A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0EE833-6A29-48D1-9D3A-D5C4250671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184D2-A953-4D44-A427-D5C9268B0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7F8EE-9B11-4F37-BB55-DC95FB16A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D1F526-8020-4082-9F15-53EA3C8ECB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7A34D9-4DE2-4F0B-A5F9-7748160656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154124-58DD-4ABA-AF19-6F01E06B8C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DD5C1-6E1D-4DAC-BB96-DF94CCFE5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F87CB-1C89-4D2A-B946-94B81C304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B53F84-8BBA-4EDE-8652-D629AAF434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559AB2-58BD-4563-856B-9E5BD23253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E5CBA2-320D-4AE6-A3D0-3977A40E52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A2242A-3A9A-43F3-86A9-FFC7415DEB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C6084B-0E41-45BE-924F-0F926EBA61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6A1D3D-EE01-483C-9B49-3D8A93D58D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A2B93-D615-439F-BCC9-ADFEA3D18A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A58483-E673-4135-BFD6-F09939B117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D4A385-83EC-4A6D-B3A6-168865069B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3CF52-3762-4989-9EE4-E51910EEE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02D2C7-2B9C-4A33-9E63-9428D9865C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123DB4-48C3-453D-95C6-5A5515A4FB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27AB11-9739-4EF0-BE9A-C6A1B16B8D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A9511F-EB00-47DB-98BB-E030B6061D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C0E094-660B-4084-8BE6-434658FD77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88371C-9024-47EB-930B-A06345371E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11C7CB-A599-4623-847F-FD74513D3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253B16-E464-46BA-AEFE-04003496FF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E6A060-16E6-4CFA-A5B0-982E9101D9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38421B-E4F0-4D49-97EE-F8C405D49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5E833-0F2B-423C-9BA3-BC72F1A6A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02A94E-5102-4509-9E52-2BCF22E82C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882A7D-6122-4FDB-82EF-443F287ED7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939141-8D50-4B69-8D4E-880A280BA9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C61BB2-A107-4F02-A14E-06AC0B2921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01D272-8DEF-412D-A228-0EBE70EB5B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2FCAE9-4AC8-47A9-A031-1977A052D0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2CFCDD-CE37-4B7E-824C-581BCF2501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35DCD1-744B-404B-A617-1987D737F3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0902CF-6BF5-4620-A900-5B46B0788E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8E0940-C77F-453F-B215-E81D8C6CBC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587A2-23D5-4BF4-A224-B8AC8A1F1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575DB2-B550-4910-AAD0-60FC0459DA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7B9C10-EF99-44ED-8E38-D5D979DCC1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F5B36-0169-44E7-86FF-CB8BD71CF1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9D513D-9432-4AFD-931F-B31E2DA996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E92384-DCE1-4D34-9DC6-D9A1802453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5BA9D8-6921-4877-A9E3-769F2E9000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C3308D-0172-4C36-B4CA-EE72028358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04C438-E559-4228-A25D-95E4162715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163F05-92D6-413C-AE99-8B46DA1754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583135-0A7B-4080-9392-DFF0D0FBD6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9E125-C4B1-4A66-B507-2BFB8CA25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686859-541A-4C15-9980-44C7155E0A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996997-C80C-441D-A5B9-77AD2CA6CB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5C0D90-A3FB-4C89-88C1-2E02214796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A47B61-EEBD-4A04-95AE-3063C67E5F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1C88EB-4C1B-4548-A1A2-CC36C4A32A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13A4CB-BAAE-4171-8E1A-45F439319C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D72820-E8AF-4E99-882C-F020AC9828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60A776-F209-4ECF-AEB8-ABECF6F773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CF0DEC-2246-4E2E-97A6-0B09CAD971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29BD639-1665-4A14-BAA9-25E20CF12B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CB221-55B8-4DE6-B947-1ACD58C9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C6BDF4-1278-4821-8175-2CC402F651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6F5995-F294-4816-8684-869545C158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0F69BB-BD7A-4613-820B-D4CFF8A2D8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53B1D0-04EC-4D68-A655-DB39FCC94F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6E6977-1ABE-4C32-8AE6-78BF7F8DB0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302D47-5EAD-40B8-B0A9-52D91DD200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2D9D28-9C64-4AAC-9B54-F5D8D4C9EB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1B85B3-19D7-4BD4-BE5D-6579B874A2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BE2C29-546A-43E4-8C79-FA3CC19E93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CE3175-19C9-4824-8549-E6E65977EA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EEDDE-856E-4C08-90B3-B76DF22A1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8B188B-FD34-49F6-BB03-FE31C4212E4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E273219-7CAD-4E05-9691-109B1C1F1DA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247A92-CCD6-45FA-85F9-F2E7696B15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6B733B-85A0-46E3-8024-593518707E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ABE95D-6C0C-4323-9CC9-381EEBAE7D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30B4C36-AB9C-4863-92D8-D5F75FCF49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7D6688-9782-4608-AF65-4285332349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BDCA16-C799-42A3-AF25-253471BE01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C2F93E-2908-4B01-9950-A8D8736475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13F529-5DDC-464A-89FC-A71D603CD1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1E1DF-7D03-4FBD-A703-4A10B5617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9D5C4A-9731-4ECB-ACAA-464607BD9D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ED788ED-C922-435E-8155-7F412B385A8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09803E0-B8B5-4D40-B83D-DF60EEFFED2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4B196A3-2E17-4F22-98F5-183BD1F71D5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2F41E9-5169-484D-8D6A-EF4F52FECF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C2A4A6-0AA7-40AE-9722-C61423CD3A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E00142-699E-469F-8B42-AB8D74EC11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FA8230-0072-4FF1-B987-5DA21882DA3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5CD8BE-9520-4182-986D-5A33008318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4E2CE5-29D4-492A-AB6E-6726984934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C335-394F-415A-B0DE-A10F38E96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B90D1-B2D6-4518-B3E4-F8D9A3573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76BC85-F09D-4B63-8466-0853228A65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1B3354-B5D0-4D7B-8019-3C1FD93E82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A17B94-F4C6-4F99-AB98-748FF417E5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06F63BE-3E43-4D29-A36C-C98165BB47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4F4F74-896A-4786-BFD9-3EE8EFD389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3F76211-984B-4B76-B3C3-0A3622159B9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CE3FC2-4524-46AD-B23D-B18A144B01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318A59B-97C0-460A-9C50-CC4709BBF0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88C920-D658-4EBA-A064-B520205B9EC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6C52C1-03BA-4D83-8B7C-943B6194B9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887E6-9551-4162-917A-A6C367700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A0A256-9D68-4CA1-BD04-E600A0133A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1BF507-217F-4F79-A3CF-6F7E84FB15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36EC70-FC23-472A-9432-17358CE326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1628C1-D6F5-46BC-BA75-F452C16CA5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576F61B-D404-43D3-B3B8-4E5BBD5D1F7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290C52A-F3A9-4F7F-9730-16FEB322D56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64E1F84-584C-408A-8427-965EFE0720C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DCC20CF-99AA-4566-A6EC-8A93D000235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46C91C-0106-44E7-8125-75CF908541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35E332F-E6FD-4633-807F-81C8AE3BA3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AA3FA-3EA5-40C4-A790-8BABCBC72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9CDC6A-6B1A-4A42-BCF8-A66862E9DF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776836-84D0-4856-B7AC-CEF344CBD8C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4F36B0F-C81D-4904-9244-DB090D988B5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B363B0-0FAE-4990-ADE5-AF726C594CF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42D316-69BB-48DE-B78B-6BDAC2BDF3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1A7568-A158-472D-9AB6-A78981395B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BD3706E-1495-4F74-BA2E-981ADE49E2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3F0CB3-E943-40DC-B0AB-61DD5F05374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80EC783-C7EF-4AD7-81BC-3DA4E7B7D94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2688CD9-232B-4584-B8BE-63AE4B9ADE3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EAAE8-2652-4C17-AEBC-0640C6F6E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88E7F0D-4465-4622-B702-9EBB752EAF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A9BC329-F6A5-40F6-95BF-ACEFACAC7FF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83E1D1-CEF1-45AD-A545-855FA650AD0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24722F4-3CA0-4BB7-8CB6-87316A61C60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92BF3FD-1F78-4D68-A022-680EF037367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F1C288-F3FE-48CA-A2E0-796DD8C110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45C22B-E375-4A66-A9CF-4E5209EE6B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6173B2-B851-492F-83DA-945326CC96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B545C48-CD9E-4201-8D11-1F1A02154C0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6CE01AE-CDDE-4950-8758-FA5B22CC227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CB6AF-31C8-4BD2-82CF-187459942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2EA08D4-214E-4C35-BBC0-DECA72A2302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678A93-FB96-4AF5-B16B-CB826D59FB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CA4D5-1C31-424D-ABE1-F376E6369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70CAF-AF28-437F-A52C-569187727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90EAF-4F29-46A4-AFC6-01143A668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243F8-7B57-4EE0-BAB9-D610536DD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30B6-E276-4EF7-B895-07BCFA9E7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32CEB-BF22-4839-8D5F-0D28E9DB1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62F4C-1301-4CFC-B230-ABC76D137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BACFB-E1DF-44D3-9C33-C651E6B71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923C0-3568-4B70-BDC5-95D976A2A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070F1-26ED-4A95-B3C9-95B77F31B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276BD-7106-4125-8CC7-BD30926F72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D23770-74FC-45E2-9DD7-0A8A905E8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57BE78-55E4-4F5C-B0A0-120C15EC77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906EC-B71F-4A84-B140-9E768BAF7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B3ADB-E163-4380-B0E1-2A2E38679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F04C-F381-4C80-922F-32CDE2DA4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1F6EA-73D7-47AB-B186-4A013A0B9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6FC8E-C277-4AB8-A339-8D8F7B2C1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46D47-0EFA-412A-B537-6F29D5804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8E1B2-F69E-4A68-9C89-95934F49C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73A11-A5F8-4CFF-8C67-0951F5C3D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90B18-14F4-41FD-85B9-AAAFDE554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53F97-829C-4EFF-9B2D-6FE0F3DE5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BA730-2885-4B22-8CD2-148ADB3C4C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6EA9C7-29F3-42EF-B1F9-0315629160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143D58-0BFD-4C63-8B48-6B66DCE2CD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C704-8306-4693-8680-42252992C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D603B-D77B-49D8-8DD4-851F11B53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136FB-D64D-4D1E-AD64-8312CBA8F0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01B91-4475-4A0E-88D9-3F9C0F156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B6BA68-D41E-41D6-8E4B-737218DE9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876E6-66F7-4E25-A3CE-183125405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6EF4A-BF01-49F3-90BE-B7BA490E4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7E107-4338-46B1-AD3A-08E7E24C7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31A48-B984-4E34-A510-2E9B77C6B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7A134-B1EB-46C9-ACF1-E84AEAC44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CB2C5-A4A5-4219-BBDE-94E0D7B4F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ACFE-84CE-4A66-8A5D-99DFADBBF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6699D6-A055-4F3A-A4E9-F2C1BA977D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59F029-FBC9-4504-A2D4-0EE57C91E4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E8F86-1104-455A-91A4-EFA374FC5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D58FE-A94A-4EBA-88EF-EBA4B8A50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4C9CE-3DA0-4B2A-8469-CB3FB99FB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D1527-E44E-4E71-AC6D-4172475524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2A9AB-B2E8-4395-A6F3-D67ED821F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C0003-B269-42FA-9B64-35BB647D2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0384D-8A40-4F2D-8F39-09EA2339B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A2318-8857-405E-8ABE-C4805BBAB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C18E-C4F6-40FB-BD03-6B77A810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3CFE35-B77F-467F-BDDE-B43C19456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842AD2-A64A-4184-8E4E-759E944778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473CA1-83C9-4453-B203-BBD1BC7CA0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59C7CC-A4CB-4790-B619-25EB7BE169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F47646-3273-4DBA-AA5B-300C2150E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295A22-CF23-4C9E-AD74-3BFCD324F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9FCFB-5AA1-4281-B1F4-A7917D3E7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E3D36-B604-4D43-AB7A-493858AE12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90315-BAA9-48FB-B05F-A3E1DBA99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C167A-DCBB-4079-8C87-BEC7C9209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EF2F-2B2F-48EF-9517-6985F8C4B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EF41E-EDDF-4860-B524-5ADED8DA2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0F31A-17F9-4E92-AA3A-84FBF61ED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1F46BA-C089-4FBD-AA1E-0F006E198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011B71-0686-4477-B8D9-A4F447100A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AB749-D1BB-4B96-8AEC-EF8B2B3102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D53182-C6E5-451E-BA0C-2E732A6337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3936C-A217-4700-8EE3-0401DBFFA1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403F9-7482-4208-A76B-0999B5A20B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67B0FA-3C7A-4258-838D-166041B9B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382F00-2948-40FB-AF4B-E47A4F896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469C-15D3-442D-9096-6DD1451A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BACA80-39CA-41B3-B2B1-031CE23FC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B5EBF-402F-48B2-9428-FDE7D1AD2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889B3-B489-4329-9B95-C029317F5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8581D-4C7B-46D6-80ED-5B4592208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F2F8B-4D2D-4742-AB48-7206BCA030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00A44B-805F-47C6-9FA1-05DADDABB5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815719-5341-4DAC-9A32-2FCECD6F1D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04CF59-42E6-4F0E-9E8E-F3F1F12ABB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F1A82-FDE1-429A-8082-15FE72CC65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27C573-CF25-42D6-812A-59E21E9013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D715-03D6-4AF8-A313-B81861DAF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C591-74E2-4DC8-AF16-DD7CB36C5C7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8E4D-9743-47CD-91CE-253B31D5D2A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745B-4A3D-4FD2-8BBE-09953DF8ADE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5B61-A008-4ECF-8B1D-831BED7082D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2A27-7431-4B59-83D1-51DB189FAB4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8FE1-0EF7-4B6B-9B8D-BC62132C678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4B37-C20E-4AE4-9DFE-3222A38773C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47A0-4C6E-438D-A280-21DE2040EF2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4B02-4C58-4769-A1AC-ED6CB881C16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8374-35F6-4E66-927B-3ACECF777CB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0120" y="-85320"/>
            <a:ext cx="2430360" cy="2250720"/>
            <a:chOff x="7170120" y="-85320"/>
            <a:chExt cx="2430360" cy="2250720"/>
          </a:xfrm>
        </p:grpSpPr>
        <p:grpSp>
          <p:nvGrpSpPr>
            <p:cNvPr id="82" name="Group 41"/>
            <p:cNvGrpSpPr/>
            <p:nvPr/>
          </p:nvGrpSpPr>
          <p:grpSpPr>
            <a:xfrm>
              <a:off x="7170120" y="-85320"/>
              <a:ext cx="2430360" cy="2250720"/>
              <a:chOff x="7170120" y="-85320"/>
              <a:chExt cx="2430360" cy="22507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0120" y="-85320"/>
                <a:ext cx="2430360" cy="2250720"/>
                <a:chOff x="7170120" y="-85320"/>
                <a:chExt cx="2430360" cy="2250720"/>
              </a:xfrm>
            </p:grpSpPr>
            <p:sp>
              <p:nvSpPr>
                <p:cNvPr id="85"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82AD-5D40-4DEA-BB99-6956E7F60E9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B118-8BDE-4ED5-B012-44835AAF462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A462-7929-4966-BFA2-F2340902A24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1AF8-7F12-430B-A483-377166AE7EF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234F-0457-43A0-905B-680F8817D28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ED86-FE8F-4FA1-89D8-E70AFC4EC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0174-0941-44D7-A61A-3B0829830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0120" y="-85320"/>
            <a:ext cx="2430360" cy="2250720"/>
            <a:chOff x="7170120" y="-85320"/>
            <a:chExt cx="2430360" cy="2250720"/>
          </a:xfrm>
        </p:grpSpPr>
        <p:grpSp>
          <p:nvGrpSpPr>
            <p:cNvPr id="415" name="Group 41"/>
            <p:cNvGrpSpPr/>
            <p:nvPr/>
          </p:nvGrpSpPr>
          <p:grpSpPr>
            <a:xfrm>
              <a:off x="7170120" y="-85320"/>
              <a:ext cx="2430360" cy="2250720"/>
              <a:chOff x="7170120" y="-85320"/>
              <a:chExt cx="2430360" cy="22507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0120" y="-85320"/>
                <a:ext cx="2430360" cy="2250720"/>
                <a:chOff x="7170120" y="-85320"/>
                <a:chExt cx="2430360" cy="2250720"/>
              </a:xfrm>
            </p:grpSpPr>
            <p:sp>
              <p:nvSpPr>
                <p:cNvPr id="418"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6880" y="4318920"/>
            <a:ext cx="978840" cy="1158840"/>
            <a:chOff x="7796880" y="4318920"/>
            <a:chExt cx="978840" cy="1158840"/>
          </a:xfrm>
        </p:grpSpPr>
        <p:sp>
          <p:nvSpPr>
            <p:cNvPr id="43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6880" y="4318920"/>
              <a:ext cx="978840" cy="1158840"/>
              <a:chOff x="7796880" y="4318920"/>
              <a:chExt cx="978840" cy="1158840"/>
            </a:xfrm>
          </p:grpSpPr>
          <p:sp>
            <p:nvSpPr>
              <p:cNvPr id="44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3C02-95AA-46FE-BBD0-1E9B549EC52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4800600" y="2362320"/>
            <a:ext cx="3182760" cy="1885680"/>
            <a:chOff x="4800600" y="2362320"/>
            <a:chExt cx="3182760" cy="1885680"/>
          </a:xfrm>
        </p:grpSpPr>
        <p:pic>
          <p:nvPicPr>
            <p:cNvPr id="948" name="Picture 11" descr="l"/>
            <p:cNvPicPr/>
            <p:nvPr/>
          </p:nvPicPr>
          <p:blipFill>
            <a:blip r:embed="rId2"/>
            <a:stretch/>
          </p:blipFill>
          <p:spPr>
            <a:xfrm>
              <a:off x="7045560" y="2362320"/>
              <a:ext cx="398520" cy="1885680"/>
            </a:xfrm>
            <a:prstGeom prst="rect">
              <a:avLst/>
            </a:prstGeom>
            <a:ln w="0">
              <a:noFill/>
            </a:ln>
          </p:spPr>
        </p:pic>
        <p:pic>
          <p:nvPicPr>
            <p:cNvPr id="949" name="Picture 14" descr="T"/>
            <p:cNvPicPr/>
            <p:nvPr/>
          </p:nvPicPr>
          <p:blipFill>
            <a:blip r:embed="rId3"/>
            <a:stretch/>
          </p:blipFill>
          <p:spPr>
            <a:xfrm>
              <a:off x="4800600" y="2362320"/>
              <a:ext cx="871200" cy="1885680"/>
            </a:xfrm>
            <a:prstGeom prst="rect">
              <a:avLst/>
            </a:prstGeom>
            <a:ln w="0">
              <a:noFill/>
            </a:ln>
          </p:spPr>
        </p:pic>
        <p:pic>
          <p:nvPicPr>
            <p:cNvPr id="950" name="Picture 15" descr="o"/>
            <p:cNvPicPr/>
            <p:nvPr/>
          </p:nvPicPr>
          <p:blipFill>
            <a:blip r:embed="rId4"/>
            <a:stretch/>
          </p:blipFill>
          <p:spPr>
            <a:xfrm>
              <a:off x="6381000" y="2362320"/>
              <a:ext cx="708840" cy="1885680"/>
            </a:xfrm>
            <a:prstGeom prst="rect">
              <a:avLst/>
            </a:prstGeom>
            <a:ln w="0">
              <a:noFill/>
            </a:ln>
          </p:spPr>
        </p:pic>
        <p:pic>
          <p:nvPicPr>
            <p:cNvPr id="951" name="Picture 16" descr="o"/>
            <p:cNvPicPr/>
            <p:nvPr/>
          </p:nvPicPr>
          <p:blipFill>
            <a:blip r:embed="rId5"/>
            <a:stretch/>
          </p:blipFill>
          <p:spPr>
            <a:xfrm>
              <a:off x="5671800" y="2362320"/>
              <a:ext cx="708840" cy="1885680"/>
            </a:xfrm>
            <a:prstGeom prst="rect">
              <a:avLst/>
            </a:prstGeom>
            <a:ln w="0">
              <a:noFill/>
            </a:ln>
          </p:spPr>
        </p:pic>
        <p:pic>
          <p:nvPicPr>
            <p:cNvPr id="952" name="Picture 18" descr="s"/>
            <p:cNvPicPr/>
            <p:nvPr/>
          </p:nvPicPr>
          <p:blipFill>
            <a:blip r:embed="rId6"/>
            <a:stretch/>
          </p:blipFill>
          <p:spPr>
            <a:xfrm>
              <a:off x="7436880" y="2362320"/>
              <a:ext cx="546480" cy="1885680"/>
            </a:xfrm>
            <a:prstGeom prst="rect">
              <a:avLst/>
            </a:prstGeom>
            <a:ln w="0">
              <a:noFill/>
            </a:ln>
          </p:spPr>
        </p:pic>
      </p:grpSp>
      <p:grpSp>
        <p:nvGrpSpPr>
          <p:cNvPr id="953" name="Group 19"/>
          <p:cNvGrpSpPr/>
          <p:nvPr/>
        </p:nvGrpSpPr>
        <p:grpSpPr>
          <a:xfrm>
            <a:off x="762120" y="2362320"/>
            <a:ext cx="3957480" cy="1885680"/>
            <a:chOff x="762120" y="2362320"/>
            <a:chExt cx="3957480" cy="1885680"/>
          </a:xfrm>
        </p:grpSpPr>
        <p:pic>
          <p:nvPicPr>
            <p:cNvPr id="954" name="Picture 8" descr="o"/>
            <p:cNvPicPr/>
            <p:nvPr/>
          </p:nvPicPr>
          <p:blipFill>
            <a:blip r:embed="rId7"/>
            <a:stretch/>
          </p:blipFill>
          <p:spPr>
            <a:xfrm>
              <a:off x="2475000" y="2362320"/>
              <a:ext cx="708840" cy="1885680"/>
            </a:xfrm>
            <a:prstGeom prst="rect">
              <a:avLst/>
            </a:prstGeom>
            <a:ln w="0">
              <a:noFill/>
            </a:ln>
          </p:spPr>
        </p:pic>
        <p:pic>
          <p:nvPicPr>
            <p:cNvPr id="955" name="Picture 9" descr="o"/>
            <p:cNvPicPr/>
            <p:nvPr/>
          </p:nvPicPr>
          <p:blipFill>
            <a:blip r:embed="rId8"/>
            <a:stretch/>
          </p:blipFill>
          <p:spPr>
            <a:xfrm>
              <a:off x="1766160" y="2362320"/>
              <a:ext cx="708840" cy="1885680"/>
            </a:xfrm>
            <a:prstGeom prst="rect">
              <a:avLst/>
            </a:prstGeom>
            <a:ln w="0">
              <a:noFill/>
            </a:ln>
          </p:spPr>
        </p:pic>
        <p:pic>
          <p:nvPicPr>
            <p:cNvPr id="956" name="Picture 10" descr="g"/>
            <p:cNvPicPr/>
            <p:nvPr/>
          </p:nvPicPr>
          <p:blipFill>
            <a:blip r:embed="rId9"/>
            <a:stretch/>
          </p:blipFill>
          <p:spPr>
            <a:xfrm>
              <a:off x="3095280" y="2362320"/>
              <a:ext cx="679320" cy="1885680"/>
            </a:xfrm>
            <a:prstGeom prst="rect">
              <a:avLst/>
            </a:prstGeom>
            <a:ln w="0">
              <a:noFill/>
            </a:ln>
          </p:spPr>
        </p:pic>
        <p:pic>
          <p:nvPicPr>
            <p:cNvPr id="957" name="Picture 12" descr="e"/>
            <p:cNvPicPr/>
            <p:nvPr/>
          </p:nvPicPr>
          <p:blipFill>
            <a:blip r:embed="rId10"/>
            <a:stretch/>
          </p:blipFill>
          <p:spPr>
            <a:xfrm>
              <a:off x="4114440" y="2362320"/>
              <a:ext cx="605160" cy="1885680"/>
            </a:xfrm>
            <a:prstGeom prst="rect">
              <a:avLst/>
            </a:prstGeom>
            <a:ln w="0">
              <a:noFill/>
            </a:ln>
          </p:spPr>
        </p:pic>
        <p:pic>
          <p:nvPicPr>
            <p:cNvPr id="958" name="Picture 17" descr="l"/>
            <p:cNvPicPr/>
            <p:nvPr/>
          </p:nvPicPr>
          <p:blipFill>
            <a:blip r:embed="rId11"/>
            <a:stretch/>
          </p:blipFill>
          <p:spPr>
            <a:xfrm>
              <a:off x="3730320" y="2362320"/>
              <a:ext cx="398520" cy="1885680"/>
            </a:xfrm>
            <a:prstGeom prst="rect">
              <a:avLst/>
            </a:prstGeom>
            <a:ln w="0">
              <a:noFill/>
            </a:ln>
          </p:spPr>
        </p:pic>
        <p:pic>
          <p:nvPicPr>
            <p:cNvPr id="959" name="Picture 7" descr="G"/>
            <p:cNvPicPr/>
            <p:nvPr/>
          </p:nvPicPr>
          <p:blipFill>
            <a:blip r:embed="rId12"/>
            <a:stretch/>
          </p:blipFill>
          <p:spPr>
            <a:xfrm>
              <a:off x="762120" y="2362320"/>
              <a:ext cx="1004040" cy="188568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106632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a:effectLst>
            <a:outerShdw dist="139498" dir="2700000" blurRad="0" rotWithShape="0">
              <a:srgbClr val="333333">
                <a:alpha val="65000"/>
              </a:srgbClr>
            </a:outerShdw>
          </a:effectLst>
        </p:spPr>
      </p:pic>
      <p:pic>
        <p:nvPicPr>
          <p:cNvPr id="980" name="Picture 7" descr=""/>
          <p:cNvPicPr/>
          <p:nvPr/>
        </p:nvPicPr>
        <p:blipFill>
          <a:blip r:embed="rId2"/>
          <a:stretch/>
        </p:blipFill>
        <p:spPr>
          <a:xfrm>
            <a:off x="3429000" y="3886200"/>
            <a:ext cx="5257800" cy="2467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11430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a:effectLst>
            <a:outerShdw dist="139498" dir="2700000" blurRad="0" rotWithShape="0">
              <a:srgbClr val="333333">
                <a:alpha val="65000"/>
              </a:srgbClr>
            </a:outerShdw>
          </a:effectLst>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a:effectLst>
            <a:outerShdw dist="139498" dir="2700000" blurRad="0" rotWithShape="0">
              <a:srgbClr val="333333">
                <a:alpha val="65000"/>
              </a:srgbClr>
            </a:outerShdw>
          </a:effectLst>
        </p:spPr>
      </p:pic>
      <p:pic>
        <p:nvPicPr>
          <p:cNvPr id="987" name="Picture 6" descr=""/>
          <p:cNvPicPr/>
          <p:nvPr/>
        </p:nvPicPr>
        <p:blipFill>
          <a:blip r:embed="rId2"/>
          <a:stretch/>
        </p:blipFill>
        <p:spPr>
          <a:xfrm>
            <a:off x="4038480" y="3352680"/>
            <a:ext cx="4191120" cy="31035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etting Documents Out</a:t>
            </a:r>
            <a:endParaRPr b="0" lang="en-US" sz="4400" spc="-1" strike="noStrike">
              <a:solidFill>
                <a:srgbClr val="333399"/>
              </a:solidFill>
              <a:latin typeface="Comic Sans MS"/>
            </a:endParaRPr>
          </a:p>
        </p:txBody>
      </p:sp>
      <p:sp>
        <p:nvSpPr>
          <p:cNvPr id="999" name=""/>
          <p:cNvSpPr txBox="1"/>
          <p:nvPr/>
        </p:nvSpPr>
        <p:spPr>
          <a:xfrm>
            <a:off x="106668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ormats  (export/save to computer)</a:t>
            </a:r>
            <a:endParaRPr b="0" lang="en-US" sz="4400" spc="-1" strike="noStrike">
              <a:solidFill>
                <a:srgbClr val="333399"/>
              </a:solidFill>
              <a:latin typeface="Comic Sans MS"/>
            </a:endParaRPr>
          </a:p>
        </p:txBody>
      </p:sp>
      <p:sp>
        <p:nvSpPr>
          <p:cNvPr id="1002" name=""/>
          <p:cNvSpPr txBox="1"/>
          <p:nvPr/>
        </p:nvSpPr>
        <p:spPr>
          <a:xfrm>
            <a:off x="114300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ndara"/>
              </a:rPr>
              <a:t>Other features</a:t>
            </a:r>
            <a:br>
              <a:rPr sz="3800"/>
            </a:br>
            <a:endParaRPr b="0" lang="en-US" sz="3800" spc="-1" strike="noStrike">
              <a:solidFill>
                <a:srgbClr val="333399"/>
              </a:solidFill>
              <a:latin typeface="Comic Sans MS"/>
            </a:endParaRPr>
          </a:p>
        </p:txBody>
      </p:sp>
      <p:sp>
        <p:nvSpPr>
          <p:cNvPr id="1006" name=""/>
          <p:cNvSpPr txBox="1"/>
          <p:nvPr/>
        </p:nvSpPr>
        <p:spPr>
          <a:xfrm>
            <a:off x="914400" y="12952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ome Numbers…</a:t>
            </a:r>
            <a:endParaRPr b="0" lang="en-US" sz="4400" spc="-1" strike="noStrike">
              <a:solidFill>
                <a:srgbClr val="333399"/>
              </a:solidFill>
              <a:latin typeface="Comic Sans MS"/>
            </a:endParaRPr>
          </a:p>
        </p:txBody>
      </p:sp>
      <p:sp>
        <p:nvSpPr>
          <p:cNvPr id="1008" name=""/>
          <p:cNvSpPr txBox="1"/>
          <p:nvPr/>
        </p:nvSpPr>
        <p:spPr>
          <a:xfrm>
            <a:off x="14479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is Google Documents?</a:t>
            </a:r>
            <a:endParaRPr b="0" lang="en-US" sz="4400" spc="-1" strike="noStrike">
              <a:solidFill>
                <a:srgbClr val="333399"/>
              </a:solidFill>
              <a:latin typeface="Comic Sans MS"/>
            </a:endParaRPr>
          </a:p>
        </p:txBody>
      </p:sp>
      <p:sp>
        <p:nvSpPr>
          <p:cNvPr id="963" name=""/>
          <p:cNvSpPr txBox="1"/>
          <p:nvPr/>
        </p:nvSpPr>
        <p:spPr>
          <a:xfrm>
            <a:off x="1295280" y="1523880"/>
            <a:ext cx="8382240" cy="4530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in the Library?</a:t>
            </a:r>
            <a:endParaRPr b="0" lang="en-US" sz="4400" spc="-1" strike="noStrike">
              <a:solidFill>
                <a:srgbClr val="333399"/>
              </a:solidFill>
              <a:latin typeface="Comic Sans MS"/>
            </a:endParaRPr>
          </a:p>
        </p:txBody>
      </p:sp>
      <p:sp>
        <p:nvSpPr>
          <p:cNvPr id="965" name=""/>
          <p:cNvSpPr txBox="1"/>
          <p:nvPr/>
        </p:nvSpPr>
        <p:spPr>
          <a:xfrm>
            <a:off x="1143000" y="14479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might it be used for?</a:t>
            </a:r>
            <a:endParaRPr b="0" lang="en-US" sz="4400" spc="-1" strike="noStrike">
              <a:solidFill>
                <a:srgbClr val="333399"/>
              </a:solidFill>
              <a:latin typeface="Comic Sans MS"/>
            </a:endParaRPr>
          </a:p>
        </p:txBody>
      </p:sp>
      <p:sp>
        <p:nvSpPr>
          <p:cNvPr id="967" name=""/>
          <p:cNvSpPr txBox="1"/>
          <p:nvPr/>
        </p:nvSpPr>
        <p:spPr>
          <a:xfrm>
            <a:off x="1295280" y="1371600"/>
            <a:ext cx="8229600" cy="49118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hare the authorshi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blog pos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y budget presentation; each library contribu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revise procedure manua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gendas for meeting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jects—organize, manag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work</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own documents “handy” for access from any Internet computer</a:t>
            </a:r>
            <a:endParaRPr b="0" lang="en-US" sz="2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does Google Docs work?</a:t>
            </a:r>
            <a:endParaRPr b="0" lang="en-US" sz="40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Bare Bones</a:t>
            </a:r>
            <a:endParaRPr b="0" lang="en-US" sz="4400" spc="-1" strike="noStrike">
              <a:solidFill>
                <a:srgbClr val="333399"/>
              </a:solidFill>
              <a:latin typeface="Comic Sans MS"/>
            </a:endParaRPr>
          </a:p>
        </p:txBody>
      </p:sp>
      <p:sp>
        <p:nvSpPr>
          <p:cNvPr id="970" name=""/>
          <p:cNvSpPr txBox="1"/>
          <p:nvPr/>
        </p:nvSpPr>
        <p:spPr>
          <a:xfrm>
            <a:off x="91440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6T16:58:50Z</cp:lastPrinted>
  <dcterms:modified xsi:type="dcterms:W3CDTF">2010-06-21T13:42:08Z</dcterms:modified>
  <cp:revision>53</cp:revision>
  <dc:subject/>
  <dc:title>Google Docs  Rocks!</dc:title>
</cp:coreProperties>
</file>