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1" name="PlaceHolder 2"/>
          <p:cNvSpPr>
            <a:spLocks noGrp="1"/>
          </p:cNvSpPr>
          <p:nvPr>
            <p:ph type="dt" idx="5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move the slide</a:t>
            </a:r>
            <a:endParaRPr b="0" lang="en-US" sz="4400" spc="-1" strike="noStrike">
              <a:solidFill>
                <a:srgbClr val="333399"/>
              </a:solidFill>
              <a:latin typeface="Comic Sans MS"/>
            </a:endParaRPr>
          </a:p>
        </p:txBody>
      </p:sp>
      <p:sp>
        <p:nvSpPr>
          <p:cNvPr id="9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4" name="PlaceHolder 5"/>
          <p:cNvSpPr>
            <a:spLocks noGrp="1"/>
          </p:cNvSpPr>
          <p:nvPr>
            <p:ph type="ftr" idx="5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5" name="PlaceHolder 6"/>
          <p:cNvSpPr>
            <a:spLocks noGrp="1"/>
          </p:cNvSpPr>
          <p:nvPr>
            <p:ph type="sldNum" idx="6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D8603-67BD-49E0-8A36-445FEF64D7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21130-381A-4966-8839-EF648E3CAC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the Computerside Chat on Google Documents.  Google Docs really does rock!</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43BF2-49E0-484B-AD04-160401DE82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 want to add a new document (or spreadsheet or presentation—but for the moment let’s use a word processing document for our example…)  there are 3 ways that I can do that.   (E-mail in is actually an option in upload in Google Docs, but it seems to me to be a separate option)  New and Upload are buttons on the toolbar, and you can e-mail docs in as attachments—from the Upload butto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5554C-A9A8-4EDE-87FA-836048BF20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clicked on “New” and here’s a blank document, with a familiar-looking toolbar, as well as a couple of familiar tabs at the top:  file and ed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another word processor—if you can do Microsoft Word, you can do this.  Type, change fonts and format, make bold and italic, do bulleted lists, create hotl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e docs automatically saves as you go along.  When you are finished, though, you can Save and Close.  (Note that you can also discard changes…since it’s saving as it goes along, you can’t just NOT save it to abandon changes, you have to tell it to disregard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f you want to share a document, that is, let others see and edit the document, too—click on Shar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EE4AB-F236-48E6-911A-AAE6B06270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on Google Docs, you can just edit it yourself, logging in each time you want to work on it, or you can invite collaborators—that is, people who can view the document along with you, or people who can edit the document along with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done through the “Share” tab toward the right of the wind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F3B85-4FD5-4B92-838F-C5D1FC1311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ite people to be collaborators (or viewers); enter their e-mail addresses, a comma between addr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choose if you want them to be able to ask others to collaborate and whether you want the invitation to be usable by anyone. (So, someone could send it out on a mail list, and anyone on the list could use the inv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generate an invitation, with space for you to write a custom message, or you can skip the invitation.  You might do that if you’re putting up a number of documents related to a project, and the people who will be accessing them know already to go to Google docs and look for the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B396C-7080-4C75-B298-676E70CD9A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document that Ann Coulter and I did together—putting together the list of Cool Tools for our presentation at the online conference in Janu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just one of us was editing at once, sometimes we were both editing at the same time.  If someone else is also editing at the same time, an orange bar will appear at the bottom left, and it tells you who else is editing.  If you want to see what they have been doing on the document, click on “refres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4AD65-CE9E-4D3B-935E-D492C520D8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one of the really cool tools in Google docs.  Click on the Revisions tab and it will show you all the revisions and versions on that document:  when that version was edited, and the changes that were made in that revision. If you need to go back and recover something, or revert the entire document back to an earlier revision, it’s easy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6A9C6-BFD2-443F-AB9E-0F2F127113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very simple spreadsheet I uploaded, showing automated libraries in SW, and the systems they use.  Spreadsheets in Google Docs are very much like your spreadsheet programs on your computer—if you do spreadsheets, there really isn’t anything new here for you to learn, except that the menus are a little different, so you may have to look a bit to find the action that you want to use.   I use Microsoft Excel, and found it very easy to make the transition to Google Doc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558DC-7171-46ED-9B2A-CAA00A7964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f more than one person is editing a spreadsheet at one time—and up to 50 can edit simultaneously a spreadsheet—you’ll see a “Discuss” tab, which allows you to chat with your fellow collaborators as you e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06884-E2C3-44CA-A9B6-2AC1EED2FC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presentations are, again, much like the software you use “offline,” on your computer. I use PowerPoint and it was easy to use Google Docs presentation.  A couple things I want to point out, though</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format in which you can export Presentations from Google Docs is pdf.  You can’t upload a presentation, let several people edit it here, then export it and use the presentation in Power Poi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hemes in Presentation are, naturally, different from those in PowerPoint.  If you upload a presentation with a theme from PowerPoint and then want to add more slides in Google Docs, your new slides will not have that Power Point theme carried through to them.  You will have to use “duplicate slide” in Google Docs to duplicate a slide already in your presentation, and replace the content of the slide with your new content. (or, you can complete the presentation and change all the slides to a Google Docs them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2986F-07F8-4B03-9F60-6F86ED1CDF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30132-3827-4324-AE26-ADC85C6590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53EEF-E94E-44D8-9B5E-8E08F5E008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A2513-5091-4B25-A51A-0650E5A567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my Docs Home, with a list of files that I’ve opened recently.  Here the list is by date, or reverse chronology, rather.   On the left is a bar that lets me look at the files organized in other ways, and to change the organization of them.  (Note that anything I do here, even to files that I have shared with many others, will be only on MY Docs account and home, not for other collaborato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eft, I can see ALL files, files that were created by me, those that have been opened by me, those that I have marked with a star as “important,” those that I want hidden, and those that I have deleted (but are still in the tras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I can also organize my files into folders.  I can create new folders from the “new” tab at the top of the window, and I can drag and drop files into them, or select several of them by clicking in the box next to the file and using “Move” to move them a specified folder.   I can also create subfolders, or folders within folders.  For example, in the ISLOC folder, for planning and logistical files for the online conference, I have a subfolder for presentations that I did at the conferenc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I can see the files that I share with collaborators, by collaborator.  So, if I want to see all the files on which Sarah is a collaborator, I can click on her name on the lis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you have some useful options for organizing your files as you would like the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1F6C8-7040-4693-9DF8-928FF73ED2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E7B68-2727-4601-82A8-A4AFD2B62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numbers and limits.  Most of you probably aren’t going to be testing these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0A28D-737A-47A7-8102-EF3D9DA606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61036-DB0B-4F17-9979-FF49941440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e Docs is, essentially, an online workspace, which allows you to work on documents, spreadsheets, or slide presentations.  The work can be collaborative or not, it’s your choice.   You have complete control over each document, and who can view it and/or edit it.  You’ll see how that is managed in a few minut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CF176-B377-4656-B264-873525B1EF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advantages—and disadvantages of using Google Docs—in the library (or in any situation)?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FE9A0-10D4-47CE-9BF1-28DC348E0E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ideas for using Google docs—either collaboratively, or alone.  ….  I’m sure you can think of some others, and will think of more as you learn more about Google Doc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D7484-A5C4-45C1-85C8-EA1ED9F2B5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77EB2-594B-444A-8F96-AA21BD8551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the “bare bones” of how Google Docs works. As with the word processor, spreadsheet and presentation software on your computer, there are 3 basic things you want to do:  get the document created (or in), edit the document and, when you’re finished, get the document out somehow—print or publish, or whatever.  Let’s look at each of these in a little more detail, specific to Google Docs.  Actually, much of what you do is the same as what you are accustomed to doing “offline” in various software, and you’ll find it easy to use Google Do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44322-46B1-482F-8A5C-E230F020DD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first things first….you’ll need a Google account, if you don’t already have one.  (If you use Blogspot you have one, if you use Gmail you have one….)  If you don’t have an account, it’s easy and free to set one up.  There’s a link from the Google Docs home page to sign up.  Then you log in using your Google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59E58-C2C7-429B-A5A4-320EEDA26B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f documents in my account.  Some were created by me, some by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eft nav bar I can find various documents, delete them, organize into folder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top there’s a toolbar:  I can create a New document, I can Upload a document, I can share a document so others can collaborate, I can hide a document or delete or renam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create a new document, so I click on “Ne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C8750-0A31-44B3-9736-47B426054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9"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F0EEB-67C9-4FC5-8228-9075A666E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6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C3DA70-28B7-4E29-BD18-344B8EF7E7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2796F7-5B61-4DD3-91B4-78C50105EF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6D5359-9004-48FB-B6A3-8840B29710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6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DB9D10-E40D-48DA-8B92-FF769AC627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6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50D533-2042-43A6-844F-3F4FCABC5F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7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DE4C36-12D6-439D-8375-840D763D68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7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31D96A-D89A-40B4-A916-D32140ECD3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8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281E3C-8E4B-4B37-BDAD-C96F3FE7B5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8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71AB271-1111-4171-A737-B8E1FD561A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E4057-F490-40BB-B85E-0621A86C67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94"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96"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9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0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0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1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15"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1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7"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B026A-722A-4569-A25C-011F6C873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23"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CD67153-8AE1-4ABC-88EC-3810103B22E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35"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9367529-1EEE-4075-BD77-68496FDD8E2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37"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9319B1C-14D6-4A1D-94E3-2ACFF1A8E32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3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9C6933B-F106-4AD7-9E2F-1B75706D361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D29CF7D-ED6F-4B82-9D6D-BFE72D1FADF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0799088-4E55-4F3B-ADDA-83A70ADC212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4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23B4419-13DE-4DAF-ADAD-08A581DC27B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4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93CAF6-2FC2-4E09-A8B1-72E658CA86E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5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392EA4B-5359-4F83-A2FE-53CCAB99D30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2B6B1A-76C3-41AF-8B3C-EA3906C13B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56"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57B884F-BE6D-4A53-A8DE-09F23FF4C8A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5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0CB2FE9-C3F2-480A-A4FF-62E9D784A7E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64"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297321D-EBA1-470E-8E40-C7800B6C425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150B29C-608E-45FC-BBF8-669A2FDA602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7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32052CF-F5C9-4C19-8561-E74E2912121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7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A554162-95DA-441F-B5FF-1348B9C3B02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8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53B7E0B-7B1F-483D-BAF1-9C94F569B94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632757B-175F-44DF-850F-EB266A84EF9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92BD2E7-FC6D-458B-87A4-FBD1DEB2F6A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8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DA5278-1FDD-4025-9DAE-BC11E1DAD6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5"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3FB407-2B16-4F69-9EB3-E9F5B9AB42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8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C7D6734-550B-444D-979C-F191481184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9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B609329-239A-4BDE-B824-1283C96CCF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9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6750D3D-9836-4804-8E87-51BDF1E30B2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0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176BA4C-B28E-4441-905C-8BA55B962BC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0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C1C9435-3997-4E5E-A4B1-18360A72654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553E2EF-3313-4C9A-8A2F-391DBDF3386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17"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C147AD5-E418-46CA-87D8-BC267BB5109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19"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E82E81A-E810-4B3B-849F-D89F227A298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2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EB2FD68-6B61-4A5C-8339-4332965C465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438909C-9FC6-4741-9053-268E26F8925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7"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4D3E73-16A5-4013-B92D-9D2B5B421C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024698B-703A-4557-B6E0-429F6E63EDC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2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599C42A-734C-42B3-8BC3-EA94C209234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3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E5E960E-50F0-44D9-8E28-FAFEB48A995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3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04912C5-4AC9-481E-8F77-4A4BE4344B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38"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461FEC9-CA96-40ED-BA94-8199F3A9606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4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C04FE95-A2B8-49D2-85CE-056A5FB337F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46"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8B454FB-3580-4AE2-9BE5-546B32B4331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68A23AF-405C-4415-8910-BB854D693C1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58"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DC63AC5-4DE4-454C-B0E0-5B855605C87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60"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B8090E4-3E58-466E-9A23-8E9970BDEBD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0D48A1-9827-490B-B81B-C3ED39916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6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80022AF-5720-4C16-AED2-0BF1A8E0B7A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B5C11AE-1E97-46CF-B1EF-C02026B1FDE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670D572-CA1D-4B89-8FE2-830F9C05D1D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6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BBCAB14-389C-42AB-B785-5E4B8964A45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7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CBCAACB-6BE0-4249-96F7-5EAEEAFB851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7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43AD9CA-4703-4E5E-A95C-C59A191ECFE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79"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EC7850F-C111-42DB-98D9-5B1497ACED7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8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3B68676-A02B-453E-B8FC-0F457B2610F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87"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224CE7E-EA54-4C36-A7B7-76A6D66A52C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ECD1F8D-C5CA-4B1A-84BF-7AC52EAA21F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8D4BF2-367A-4CD4-82C6-8D11B66594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99"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096AA02-D194-4344-950A-2657B5DF679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01"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81B2748-AB38-4269-9A78-A8F76E80CD7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03"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05526CB-EABC-4B09-8867-2C592C7FB93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FE22184-EEB8-4035-9F45-850DF0DF472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E5A9AD3-31BC-482D-838B-C9C6FD43C47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0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25248FC-42D6-4972-BA7E-A463F5AB8A9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1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27F5CB6-F53C-4703-9C5E-48E19F31F2B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1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FC8D21E-62F9-4AD5-A264-EE89738ABEB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20"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42A7EC0-B4BE-448C-A255-285D4E39CDE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2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E6914B5-EFBC-4013-9885-09D90BEAB21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AB016C-BB1C-411C-B4C8-DFF24830B9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28"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574BED3-3283-4A55-89CE-3DE012709D7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AACD128-B233-4A3F-BD06-64972AB2D4D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0"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4A978CB-0169-4FAA-A6A4-55A31547670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2"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8CE5A4A-6E92-4FCC-AD36-EF33F8E5556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4"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2EEDB85-6F11-4F8B-840B-C1BA1C8659D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6C107AB-C256-4332-8B54-B8E7D7B7BFA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9034929-B590-4BBA-B13F-53D80056F5B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E886DE8-A651-46FC-A59A-CFFE47BF0EA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53"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3BA3DC1-891F-4C6F-9D4E-781F2DBF1D3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5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FFD817D-EDFC-4CB6-97D9-A1C309EFC69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5EE47-4F47-4478-BC6C-C18D98E12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61"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CCA4E74-8FAA-4E5E-BDDC-6A16BD564AB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6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7"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84D640F-8799-4378-A220-3FA9B2C3380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69"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987059D-C119-4DB3-A24C-82277AE059A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F0FBE86-501F-45F8-8F75-B191139E797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81"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A30A404-22C6-4E61-AC93-72A70AB9A69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83"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18DE2D1-3279-44EE-815D-43A2587C2F1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85"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EE4AF35-A9A0-40FC-A9B9-46E052F6838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0C36C16-50B4-4422-95A4-917687E55E5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1A196EB-F5AB-4A17-B7DD-13648FFA45C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9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CF5DA81-57C1-4EC0-A642-560379E333E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FC2CB-18CA-425B-BC16-D0EE9C3DD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D40E3-DE4B-4DD0-81D6-2F6EB15ACC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94"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BC02290-5A1A-40CF-ACCF-0BFDA505A57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9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764DEF8-05E6-4BDC-9A35-4C259DA016B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02"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C2C3D0C-7370-4C87-A9F3-1DC0C3023D7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0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4128224-FF6B-445B-BC58-8729CBADB0C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10"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1"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A8B875D-9DF3-4765-871F-3F30D4DBBF8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A0BAAD4-4360-4C28-A935-0915A415682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22"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E265CD2-BABD-4947-B5E7-F1CB3B0B3BC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24"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FE8F773-31DC-471A-9475-3BF4B2E0E4E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26"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EBE3369-A3B4-414F-A5A6-7260C40CACA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7B7A127-2160-4EA2-8A56-4CB4DEE2700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811E0-E30D-4DB9-91A6-2DCB6C416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668DE2F-51BF-49DC-B002-38505ADDCA7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3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2DEB687-F870-495B-819F-C1DFD242796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35"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F6F9F2D-FE58-489A-96D7-543A5641CCC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3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5289A34-2B97-419E-ACA7-4E6E668C68B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43"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C6C69B5-9C00-43DD-8B36-3A7C8E8D3F1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4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4968F8D-C244-409A-B4BD-16474033020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51"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544D4FB-1ABC-41C4-BC91-F7D7BDEE68D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0FCD698-3F97-4EDE-B7E8-6CC741E463D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63"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8952054-CFAA-4051-BC01-A9F1D6B6A20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65"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739DB91-F814-4CF8-82C1-1AAF96F3572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6"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C71004-6091-47FF-93EB-8A5AD73C9C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6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DD25B15-278D-4359-A9C8-1535E93697F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C75302C-BB00-4CDA-AD0D-7BF53CAE4E8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8518975-F22B-4F15-92A4-8E224CD2068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7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812609A-A5AC-4201-825E-530B4D18258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76"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217B672-A4DA-4A52-97E0-E9FB95909B0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8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ABDA3C8-F350-4C12-BD1F-2665C7B8DEF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84"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4C8513A-FF96-4657-93C1-E3DDF71560F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8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6F1C795-9ED0-4CB9-BB63-2A6906088DA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92"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E3A7B263-BEF9-475A-B564-C81F3F5BBD1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C0BE318C-0618-450F-89AC-12A1818B32F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6046DB-E0B7-4288-80EF-532959AA3F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04"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17A8297-357B-4D4A-AB20-49173385F55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06"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EFAEB39-289B-425D-BC91-19CBE1FA3A6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0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8CB4EAA-AD56-4129-86A6-7626BE3E043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B2F5E33-DD06-4413-918D-9BCBDBBB423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03F23A3-FB68-4357-8CB1-E867809A97F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1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90483D6-37A4-461F-AEE4-C32AB3CBE25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1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5E7B498-AB1C-4516-BF77-BF05243E1C0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2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635C549-25EA-4461-A66F-BE1BCD68A1E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25"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6"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46B7E32-15B7-48C7-9E54-41C33F782F5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2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B28FB7B-C09F-4C1F-B28D-52833324168F}"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24"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92781E-C95E-4FB2-8BBB-A903347EAA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33"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61C68C5-C9FA-44D1-890D-BA4B8A576F68}"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079622-FEEC-4762-90D7-8E302C68F6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3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C1B8CA-1049-478E-BDBA-CE2D1997BC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3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692CF1-B898-4F8C-B4BB-3AC0BA5E7C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4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CC1C6E-7645-4851-B8A7-2E2F163C38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0AB1D9-9542-4FB7-9DE0-E37E592269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B786F-37B6-4AB7-816D-04B2450CA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A519FB-1770-4623-9B41-3C73001D08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4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216C50-F93C-4B49-8263-20595BD02C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4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CF74F9-7955-477D-9E76-C94B6C2BA4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5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754232-0D81-4D45-9495-0FA4018CB2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5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6F850C-B4C0-4821-B592-FEFFD7E613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6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4CEBB9-2963-4972-A283-756D60F4D1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6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0C0AE6-E393-451F-B275-864632F52C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D979BE-4112-4896-A81E-BEA9647FE2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7"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E8C199-B88B-4DAE-B6F9-92269AFCF5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9"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C9367B-BE9B-484E-AA20-C79DD4F1B0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57A3B-4011-4F40-B671-8F9BAEF7D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8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0A1E20-8BEF-42CB-ABDB-9DB3AE1FAC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4BD3D1-333F-44D4-9F06-5F544DD497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852976-733D-44D1-B5D9-135564B676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8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4B0C4A-9FC7-4864-9E0D-3886049D6E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A9B96A-27A2-4C47-A379-017C311D06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F532A4-A546-4131-81E2-EBE649B510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8"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A833F0-497B-446D-8D82-7F82F5D2F5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0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9533B3-1646-4A0C-9052-0666ECE087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06"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71D411-F1DC-48F5-9033-9D7C7545C8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09E8A1-A69C-459D-8BBE-BB337B239B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4AA2E-0A4F-4646-83B7-FD8490C5A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18"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99B793-E66D-42BE-AA81-2CF52359BA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20"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2902B1-6932-49D5-A495-81EF78F177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2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A641B2-BFC1-45B6-A72C-4CE2042F0D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42EB1A-0F2E-4245-BFDC-4938D2C7C7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CF032C-DB9C-4A16-BE8E-15E7085303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2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6179A1-B34D-4116-BDEC-734DAD610A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786D00-34CA-4C54-8958-AA76DC25F2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5CE15F-BDE1-4B6F-9D1B-113AF0C52D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9"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B41BC9-9461-430C-961E-91F2FF9B72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4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C4B5B4-3DBE-4A5F-9EEF-A64A2C1CF4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2C72B-AA66-46C0-B574-B4115B3A9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47"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A6433A-63BE-422A-85A7-FEDB70BD8D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7C032B-5F0B-4E9C-821D-F21785531C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59"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3C62A6-15F1-4335-86E6-3CAF2DAF2D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61"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CB6457-AA5C-4584-B517-BBC24A3C69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63"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1B25D5-8C18-4182-A707-A720940687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8E55F4-5974-4781-AD90-3D6D72BEA9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24F800-521F-4716-AD0C-A06EBB8185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6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DA4910-32BC-46B7-90BC-FC645DE3B3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7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D6AE07-7B9A-465C-9B9B-2F236122FE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7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6731AF-877B-427E-A333-DCEE5865D3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F011E-E2A8-4F15-854B-127212A94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80"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43D8A8-2821-4E52-833F-19E9D46704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8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E97376-1129-410A-BCD5-61E9D0B0F2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88"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8CB125-216C-4661-907F-940D6198C6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CB1F5B-315A-4CF4-9E6C-B56DA5FCCA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3"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6BCD0D-83A1-439A-918E-6A4FC6DFF8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5"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321639-CFDA-458C-9765-51F6743DAF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EA9E9A-1A17-414A-905B-66C44A760C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8EED0D-1E20-4718-B246-8ABF0451E6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4542EA-08E4-4DFA-964A-9B435F05F5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1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E6187C-3D74-43BE-9455-A7C67D444C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26CA6-FCEC-4CA1-8C3E-58F3AC390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16"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B9662D-201E-43D5-BD0D-8E9080F13C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7B1E84-CD38-44EF-8585-B9BD294A26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4"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F013C6-6E31-4209-8AC7-A0C16AB188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1029F5-0C23-451A-AFB3-E2E2DF2E2F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32"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CCADCB-E08F-405F-893A-9CCCC6EEA0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36FBB4-8E45-4E0E-B233-3D01218F8D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4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970486-BCE2-4932-9277-1DCFBCC752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4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422FA0-1F9A-4251-8A37-11048486CA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EAB482-7AFC-4821-BDB3-3C9BAA5A81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5C2867-B0E9-45B9-8C1F-18AC24BDDE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79CF9-20EA-489F-BB39-89CE9F38F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188B3A-57B0-4E2E-A5ED-D5D6B70CE4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F6CAC2-E2D8-4852-93EB-1162AF16EA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2A46D3-F1DE-439D-9BD8-D5ED2FA410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6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718B35-1A50-45B6-8D48-AF69CE3BAE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6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CA57B4-FE79-4950-830F-0012D34E01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7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7A513E-A2A7-4D53-A494-3B56F7284DB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7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902B2BD-74BC-443C-A4D2-0B01D6783EF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A9368A2-23E3-437A-A7A9-FF8F46FAA2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5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AAF69B-A04C-4DE1-8B37-E941E444AF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5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519DD0-C6FA-4B12-833D-39AB7B32404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1" name="PlaceHolder 2"/>
          <p:cNvSpPr>
            <a:spLocks noGrp="1"/>
          </p:cNvSpPr>
          <p:nvPr>
            <p:ph type="body"/>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407EB-A86C-488C-8A17-C7860DDB5A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6" descr="Untitled-1.png"/>
          <p:cNvPicPr/>
          <p:nvPr/>
        </p:nvPicPr>
        <p:blipFill>
          <a:blip r:embed="rId2"/>
          <a:stretch/>
        </p:blipFill>
        <p:spPr>
          <a:xfrm>
            <a:off x="0" y="0"/>
            <a:ext cx="9144000" cy="6858000"/>
          </a:xfrm>
          <a:prstGeom prst="rect">
            <a:avLst/>
          </a:prstGeom>
          <a:ln w="0">
            <a:noFill/>
          </a:ln>
        </p:spPr>
      </p:pic>
      <p:pic>
        <p:nvPicPr>
          <p:cNvPr id="6" name="Picture 7" descr="ltback.png"/>
          <p:cNvPicPr/>
          <p:nvPr/>
        </p:nvPicPr>
        <p:blipFill>
          <a:blip r:embed="rId3">
            <a:lum bright="32000"/>
          </a:blip>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49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53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53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BF794-BE63-49AA-84BB-EAC511523E86}"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57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57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F129A-6253-448F-A7C3-171D7DAB5887}"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6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61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93732-8020-4CDB-8ACE-1F78CEF180F3}"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65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65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98CEB-4AB0-4E9C-B4B3-951ECFD827EA}"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69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69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E55B0-0C05-4701-B0A6-BF46B5DF0FAF}"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73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736"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24050-9BFA-4D82-8D60-C26222E0E0B0}"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77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777"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PlaceHolder 5"/>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39F57-74F7-4FD5-B2AE-7403A279BFBF}"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8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818"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PlaceHolder 5"/>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5695B-C763-4839-A6D1-903CDE1BB103}"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8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859" name="PlaceHolder 3"/>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PlaceHolder 5"/>
          <p:cNvSpPr>
            <a:spLocks noGrp="1"/>
          </p:cNvSpPr>
          <p:nvPr>
            <p:ph type="sldNum" idx="5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8ADBD-6E0C-4CE8-99AF-299D1E6334B1}"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43"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4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ffb8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371BF-F5CD-445A-A388-4FE941A6B32A}"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9"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0"/>
          <p:cNvGrpSpPr/>
          <p:nvPr/>
        </p:nvGrpSpPr>
        <p:grpSpPr>
          <a:xfrm>
            <a:off x="7920" y="5540400"/>
            <a:ext cx="1784520" cy="1246320"/>
            <a:chOff x="7920" y="5540400"/>
            <a:chExt cx="1784520" cy="1246320"/>
          </a:xfrm>
        </p:grpSpPr>
        <p:sp>
          <p:nvSpPr>
            <p:cNvPr id="52"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 name="Group 20"/>
            <p:cNvGrpSpPr/>
            <p:nvPr/>
          </p:nvGrpSpPr>
          <p:grpSpPr>
            <a:xfrm>
              <a:off x="7920" y="5540400"/>
              <a:ext cx="1784520" cy="1238400"/>
              <a:chOff x="7920" y="5540400"/>
              <a:chExt cx="1784520" cy="1238400"/>
            </a:xfrm>
          </p:grpSpPr>
          <p:grpSp>
            <p:nvGrpSpPr>
              <p:cNvPr id="62" name="Group 21"/>
              <p:cNvGrpSpPr/>
              <p:nvPr/>
            </p:nvGrpSpPr>
            <p:grpSpPr>
              <a:xfrm>
                <a:off x="792000" y="5654520"/>
                <a:ext cx="870120" cy="1124280"/>
                <a:chOff x="792000" y="5654520"/>
                <a:chExt cx="870120" cy="1124280"/>
              </a:xfrm>
            </p:grpSpPr>
            <p:sp>
              <p:nvSpPr>
                <p:cNvPr id="63"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 name="Group 28"/>
              <p:cNvGrpSpPr/>
              <p:nvPr/>
            </p:nvGrpSpPr>
            <p:grpSpPr>
              <a:xfrm>
                <a:off x="7920" y="5540400"/>
                <a:ext cx="1784520" cy="1076400"/>
                <a:chOff x="7920" y="5540400"/>
                <a:chExt cx="1784520" cy="1076400"/>
              </a:xfrm>
            </p:grpSpPr>
            <p:sp>
              <p:nvSpPr>
                <p:cNvPr id="70"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78" name="Group 37"/>
          <p:cNvGrpSpPr/>
          <p:nvPr/>
        </p:nvGrpSpPr>
        <p:grpSpPr>
          <a:xfrm>
            <a:off x="8680320" y="2116080"/>
            <a:ext cx="385920" cy="4308480"/>
            <a:chOff x="8680320" y="2116080"/>
            <a:chExt cx="385920" cy="4308480"/>
          </a:xfrm>
        </p:grpSpPr>
        <p:sp>
          <p:nvSpPr>
            <p:cNvPr id="79"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 name="Group 40"/>
          <p:cNvGrpSpPr/>
          <p:nvPr/>
        </p:nvGrpSpPr>
        <p:grpSpPr>
          <a:xfrm>
            <a:off x="7171560" y="-87480"/>
            <a:ext cx="2427480" cy="2247120"/>
            <a:chOff x="7171560" y="-87480"/>
            <a:chExt cx="2427480" cy="2247120"/>
          </a:xfrm>
        </p:grpSpPr>
        <p:grpSp>
          <p:nvGrpSpPr>
            <p:cNvPr id="82" name="Group 41"/>
            <p:cNvGrpSpPr/>
            <p:nvPr/>
          </p:nvGrpSpPr>
          <p:grpSpPr>
            <a:xfrm>
              <a:off x="7171560" y="-87480"/>
              <a:ext cx="2427480" cy="2247120"/>
              <a:chOff x="7171560" y="-87480"/>
              <a:chExt cx="2427480" cy="2247120"/>
            </a:xfrm>
          </p:grpSpPr>
          <p:sp>
            <p:nvSpPr>
              <p:cNvPr id="83"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 name="Group 43"/>
              <p:cNvGrpSpPr/>
              <p:nvPr/>
            </p:nvGrpSpPr>
            <p:grpSpPr>
              <a:xfrm>
                <a:off x="7171560" y="-87480"/>
                <a:ext cx="2427480" cy="2247120"/>
                <a:chOff x="7171560" y="-87480"/>
                <a:chExt cx="2427480" cy="2247120"/>
              </a:xfrm>
            </p:grpSpPr>
            <p:sp>
              <p:nvSpPr>
                <p:cNvPr id="85" name="Freeform 44"/>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45"/>
                <p:cNvSpPr/>
                <p:nvPr/>
              </p:nvSpPr>
              <p:spPr>
                <a:xfrm rot="18427200">
                  <a:off x="8014320" y="525600"/>
                  <a:ext cx="42732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46"/>
                <p:cNvSpPr/>
                <p:nvPr/>
              </p:nvSpPr>
              <p:spPr>
                <a:xfrm rot="18427200">
                  <a:off x="7713000" y="288000"/>
                  <a:ext cx="80172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47"/>
                <p:cNvSpPr/>
                <p:nvPr/>
              </p:nvSpPr>
              <p:spPr>
                <a:xfrm rot="18427200">
                  <a:off x="7783200" y="-30240"/>
                  <a:ext cx="12034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48"/>
                <p:cNvSpPr/>
                <p:nvPr/>
              </p:nvSpPr>
              <p:spPr>
                <a:xfrm rot="18427200">
                  <a:off x="8409600" y="1422720"/>
                  <a:ext cx="26820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49"/>
                <p:cNvSpPr/>
                <p:nvPr/>
              </p:nvSpPr>
              <p:spPr>
                <a:xfrm rot="18427200">
                  <a:off x="8339400" y="1278360"/>
                  <a:ext cx="28764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50"/>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51"/>
                <p:cNvSpPr/>
                <p:nvPr/>
              </p:nvSpPr>
              <p:spPr>
                <a:xfrm rot="18427200">
                  <a:off x="7855560" y="224280"/>
                  <a:ext cx="28404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3"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89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900" name="PlaceHolder 3"/>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PlaceHolder 5"/>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487FB-F230-4E71-8F27-AFB321051B8D}"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Click to edit the title text format</a:t>
            </a:r>
            <a:endParaRPr b="0" lang="en-US" sz="4400" spc="-1" strike="noStrike">
              <a:solidFill>
                <a:srgbClr val="dddddd"/>
              </a:solidFill>
              <a:latin typeface="Arial"/>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13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5800B-6525-4756-9219-D7FEF8BD5549}"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Click to edit the title text format</a:t>
            </a:r>
            <a:endParaRPr b="0" lang="en-US" sz="4400" spc="-1" strike="noStrike">
              <a:solidFill>
                <a:srgbClr val="dddddd"/>
              </a:solidFill>
              <a:latin typeface="Arial"/>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3"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FC966-24B2-47F2-8F6B-DC30F480A830}"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13" name="PlaceHolder 2"/>
          <p:cNvSpPr>
            <a:spLocks noGrp="1"/>
          </p:cNvSpPr>
          <p:nvPr>
            <p:ph type="body"/>
          </p:nvPr>
        </p:nvSpPr>
        <p:spPr>
          <a:xfrm>
            <a:off x="457200" y="17985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26DDB-D91E-4560-A0D7-AA4FB241AEC3}"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2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255"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042b"/>
                </a:solidFill>
                <a:latin typeface="Trebuchet MS"/>
              </a:rPr>
              <a:t>&lt;date/time&gt;</a:t>
            </a:r>
            <a:endParaRPr b="0" lang="en-US" sz="1400" spc="-1" strike="noStrike">
              <a:solidFill>
                <a:srgbClr val="000000"/>
              </a:solidFill>
              <a:latin typeface="Times New Roman"/>
            </a:endParaRPr>
          </a:p>
        </p:txBody>
      </p:sp>
      <p:sp>
        <p:nvSpPr>
          <p:cNvPr id="256"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413B2-A03E-41AA-BD0C-7654983A6384}"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pic>
        <p:nvPicPr>
          <p:cNvPr id="294" name="Picture 6" descr="Untitled-1.png"/>
          <p:cNvPicPr/>
          <p:nvPr/>
        </p:nvPicPr>
        <p:blipFill>
          <a:blip r:embed="rId2"/>
          <a:stretch/>
        </p:blipFill>
        <p:spPr>
          <a:xfrm>
            <a:off x="0" y="0"/>
            <a:ext cx="9144000" cy="6858000"/>
          </a:xfrm>
          <a:prstGeom prst="rect">
            <a:avLst/>
          </a:prstGeom>
          <a:ln w="0">
            <a:noFill/>
          </a:ln>
        </p:spPr>
      </p:pic>
      <p:pic>
        <p:nvPicPr>
          <p:cNvPr id="295" name="Picture 7" descr="ltback.png"/>
          <p:cNvPicPr/>
          <p:nvPr/>
        </p:nvPicPr>
        <p:blipFill>
          <a:blip r:embed="rId3">
            <a:lum bright="32000"/>
          </a:blip>
          <a:stretch/>
        </p:blipFill>
        <p:spPr>
          <a:xfrm>
            <a:off x="0" y="0"/>
            <a:ext cx="9144000" cy="6858000"/>
          </a:xfrm>
          <a:prstGeom prst="rect">
            <a:avLst/>
          </a:prstGeom>
          <a:ln w="0">
            <a:noFill/>
          </a:ln>
        </p:spPr>
      </p:pic>
      <p:pic>
        <p:nvPicPr>
          <p:cNvPr id="296" name="Picture 8" descr="Untitled-1.png"/>
          <p:cNvPicPr/>
          <p:nvPr/>
        </p:nvPicPr>
        <p:blipFill>
          <a:blip r:embed="rId4"/>
          <a:stretch/>
        </p:blipFill>
        <p:spPr>
          <a:xfrm>
            <a:off x="0" y="0"/>
            <a:ext cx="9144000" cy="6858000"/>
          </a:xfrm>
          <a:prstGeom prst="rect">
            <a:avLst/>
          </a:prstGeom>
          <a:ln w="0">
            <a:noFill/>
          </a:ln>
        </p:spPr>
      </p:pic>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298" name="PlaceHolder 2"/>
          <p:cNvSpPr>
            <a:spLocks noGrp="1"/>
          </p:cNvSpPr>
          <p:nvPr>
            <p:ph type="body"/>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AEBA9-F9F6-4BFE-998F-9929CA1FE4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pic>
        <p:nvPicPr>
          <p:cNvPr id="338" name="Picture 6" descr="Untitled-1.png"/>
          <p:cNvPicPr/>
          <p:nvPr/>
        </p:nvPicPr>
        <p:blipFill>
          <a:blip r:embed="rId2"/>
          <a:stretch/>
        </p:blipFill>
        <p:spPr>
          <a:xfrm>
            <a:off x="0" y="0"/>
            <a:ext cx="9144000" cy="6858000"/>
          </a:xfrm>
          <a:prstGeom prst="rect">
            <a:avLst/>
          </a:prstGeom>
          <a:ln w="0">
            <a:noFill/>
          </a:ln>
        </p:spPr>
      </p:pic>
      <p:pic>
        <p:nvPicPr>
          <p:cNvPr id="339" name="Picture 7" descr="ltback.png"/>
          <p:cNvPicPr/>
          <p:nvPr/>
        </p:nvPicPr>
        <p:blipFill>
          <a:blip r:embed="rId3">
            <a:lum bright="32000"/>
          </a:blip>
          <a:stretch/>
        </p:blipFill>
        <p:spPr>
          <a:xfrm>
            <a:off x="0" y="0"/>
            <a:ext cx="9144000" cy="6858000"/>
          </a:xfrm>
          <a:prstGeom prst="rect">
            <a:avLst/>
          </a:prstGeom>
          <a:ln w="0">
            <a:noFill/>
          </a:ln>
        </p:spPr>
      </p:pic>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341" name="PlaceHolder 2"/>
          <p:cNvSpPr>
            <a:spLocks noGrp="1"/>
          </p:cNvSpPr>
          <p:nvPr>
            <p:ph type="body"/>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2"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F96B1-1B08-49CC-9014-39A2622CE6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381"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4" name="Group 10"/>
          <p:cNvGrpSpPr/>
          <p:nvPr/>
        </p:nvGrpSpPr>
        <p:grpSpPr>
          <a:xfrm>
            <a:off x="7920" y="5540400"/>
            <a:ext cx="1784520" cy="1246320"/>
            <a:chOff x="7920" y="5540400"/>
            <a:chExt cx="1784520" cy="1246320"/>
          </a:xfrm>
        </p:grpSpPr>
        <p:sp>
          <p:nvSpPr>
            <p:cNvPr id="385"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20"/>
            <p:cNvGrpSpPr/>
            <p:nvPr/>
          </p:nvGrpSpPr>
          <p:grpSpPr>
            <a:xfrm>
              <a:off x="7920" y="5540400"/>
              <a:ext cx="1784520" cy="1238400"/>
              <a:chOff x="7920" y="5540400"/>
              <a:chExt cx="1784520" cy="1238400"/>
            </a:xfrm>
          </p:grpSpPr>
          <p:grpSp>
            <p:nvGrpSpPr>
              <p:cNvPr id="395" name="Group 21"/>
              <p:cNvGrpSpPr/>
              <p:nvPr/>
            </p:nvGrpSpPr>
            <p:grpSpPr>
              <a:xfrm>
                <a:off x="792000" y="5654520"/>
                <a:ext cx="870120" cy="1124280"/>
                <a:chOff x="792000" y="5654520"/>
                <a:chExt cx="870120" cy="1124280"/>
              </a:xfrm>
            </p:grpSpPr>
            <p:sp>
              <p:nvSpPr>
                <p:cNvPr id="396"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9"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2" name="Group 28"/>
              <p:cNvGrpSpPr/>
              <p:nvPr/>
            </p:nvGrpSpPr>
            <p:grpSpPr>
              <a:xfrm>
                <a:off x="7920" y="5540400"/>
                <a:ext cx="1784520" cy="1076400"/>
                <a:chOff x="7920" y="5540400"/>
                <a:chExt cx="1784520" cy="1076400"/>
              </a:xfrm>
            </p:grpSpPr>
            <p:sp>
              <p:nvSpPr>
                <p:cNvPr id="403"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411" name="Group 37"/>
          <p:cNvGrpSpPr/>
          <p:nvPr/>
        </p:nvGrpSpPr>
        <p:grpSpPr>
          <a:xfrm>
            <a:off x="8680320" y="2116080"/>
            <a:ext cx="385920" cy="4308480"/>
            <a:chOff x="8680320" y="2116080"/>
            <a:chExt cx="385920" cy="4308480"/>
          </a:xfrm>
        </p:grpSpPr>
        <p:sp>
          <p:nvSpPr>
            <p:cNvPr id="412"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Group 40"/>
          <p:cNvGrpSpPr/>
          <p:nvPr/>
        </p:nvGrpSpPr>
        <p:grpSpPr>
          <a:xfrm>
            <a:off x="7171560" y="-87480"/>
            <a:ext cx="2427480" cy="2247120"/>
            <a:chOff x="7171560" y="-87480"/>
            <a:chExt cx="2427480" cy="2247120"/>
          </a:xfrm>
        </p:grpSpPr>
        <p:grpSp>
          <p:nvGrpSpPr>
            <p:cNvPr id="415" name="Group 41"/>
            <p:cNvGrpSpPr/>
            <p:nvPr/>
          </p:nvGrpSpPr>
          <p:grpSpPr>
            <a:xfrm>
              <a:off x="7171560" y="-87480"/>
              <a:ext cx="2427480" cy="2247120"/>
              <a:chOff x="7171560" y="-87480"/>
              <a:chExt cx="2427480" cy="2247120"/>
            </a:xfrm>
          </p:grpSpPr>
          <p:sp>
            <p:nvSpPr>
              <p:cNvPr id="416"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 name="Group 43"/>
              <p:cNvGrpSpPr/>
              <p:nvPr/>
            </p:nvGrpSpPr>
            <p:grpSpPr>
              <a:xfrm>
                <a:off x="7171560" y="-87480"/>
                <a:ext cx="2427480" cy="2247120"/>
                <a:chOff x="7171560" y="-87480"/>
                <a:chExt cx="2427480" cy="2247120"/>
              </a:xfrm>
            </p:grpSpPr>
            <p:sp>
              <p:nvSpPr>
                <p:cNvPr id="418" name="Freeform 44"/>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45"/>
                <p:cNvSpPr/>
                <p:nvPr/>
              </p:nvSpPr>
              <p:spPr>
                <a:xfrm rot="18427200">
                  <a:off x="8014320" y="525600"/>
                  <a:ext cx="42732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46"/>
                <p:cNvSpPr/>
                <p:nvPr/>
              </p:nvSpPr>
              <p:spPr>
                <a:xfrm rot="18427200">
                  <a:off x="7713000" y="288000"/>
                  <a:ext cx="80172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47"/>
                <p:cNvSpPr/>
                <p:nvPr/>
              </p:nvSpPr>
              <p:spPr>
                <a:xfrm rot="18427200">
                  <a:off x="7783200" y="-30240"/>
                  <a:ext cx="12034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48"/>
                <p:cNvSpPr/>
                <p:nvPr/>
              </p:nvSpPr>
              <p:spPr>
                <a:xfrm rot="18427200">
                  <a:off x="8409600" y="1422720"/>
                  <a:ext cx="26820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49"/>
                <p:cNvSpPr/>
                <p:nvPr/>
              </p:nvSpPr>
              <p:spPr>
                <a:xfrm rot="18427200">
                  <a:off x="8339400" y="1278360"/>
                  <a:ext cx="28764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50"/>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51"/>
                <p:cNvSpPr/>
                <p:nvPr/>
              </p:nvSpPr>
              <p:spPr>
                <a:xfrm rot="18427200">
                  <a:off x="7855560" y="224280"/>
                  <a:ext cx="28404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26"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8" name="Group 8"/>
          <p:cNvGrpSpPr/>
          <p:nvPr/>
        </p:nvGrpSpPr>
        <p:grpSpPr>
          <a:xfrm>
            <a:off x="195120" y="235080"/>
            <a:ext cx="3787920" cy="1778040"/>
            <a:chOff x="195120" y="235080"/>
            <a:chExt cx="3787920" cy="1778040"/>
          </a:xfrm>
        </p:grpSpPr>
        <p:sp>
          <p:nvSpPr>
            <p:cNvPr id="42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2" name="Group 12"/>
            <p:cNvGrpSpPr/>
            <p:nvPr/>
          </p:nvGrpSpPr>
          <p:grpSpPr>
            <a:xfrm>
              <a:off x="195120" y="235080"/>
              <a:ext cx="3787920" cy="1716120"/>
              <a:chOff x="195120" y="235080"/>
              <a:chExt cx="3787920" cy="1716120"/>
            </a:xfrm>
          </p:grpSpPr>
          <p:sp>
            <p:nvSpPr>
              <p:cNvPr id="43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38" name="Group 18"/>
          <p:cNvGrpSpPr/>
          <p:nvPr/>
        </p:nvGrpSpPr>
        <p:grpSpPr>
          <a:xfrm>
            <a:off x="7797600" y="4318560"/>
            <a:ext cx="979920" cy="1159560"/>
            <a:chOff x="7797600" y="4318560"/>
            <a:chExt cx="979920" cy="1159560"/>
          </a:xfrm>
        </p:grpSpPr>
        <p:sp>
          <p:nvSpPr>
            <p:cNvPr id="439" name="Freeform 19"/>
            <p:cNvSpPr/>
            <p:nvPr/>
          </p:nvSpPr>
          <p:spPr>
            <a:xfrm rot="7320000">
              <a:off x="7792920" y="4660560"/>
              <a:ext cx="998640" cy="4651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20"/>
            <p:cNvSpPr/>
            <p:nvPr/>
          </p:nvSpPr>
          <p:spPr>
            <a:xfrm rot="7320000">
              <a:off x="7767720" y="4639320"/>
              <a:ext cx="995400" cy="46044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21"/>
            <p:cNvSpPr/>
            <p:nvPr/>
          </p:nvSpPr>
          <p:spPr>
            <a:xfrm rot="7320000">
              <a:off x="7935840" y="4623120"/>
              <a:ext cx="660600" cy="4208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22"/>
            <p:cNvGrpSpPr/>
            <p:nvPr/>
          </p:nvGrpSpPr>
          <p:grpSpPr>
            <a:xfrm>
              <a:off x="7797600" y="4318560"/>
              <a:ext cx="979920" cy="1159560"/>
              <a:chOff x="7797600" y="4318560"/>
              <a:chExt cx="979920" cy="1159560"/>
            </a:xfrm>
          </p:grpSpPr>
          <p:sp>
            <p:nvSpPr>
              <p:cNvPr id="443" name="Freeform 23"/>
              <p:cNvSpPr/>
              <p:nvPr/>
            </p:nvSpPr>
            <p:spPr>
              <a:xfrm rot="7320000">
                <a:off x="7916400" y="5063760"/>
                <a:ext cx="9396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24"/>
              <p:cNvSpPr/>
              <p:nvPr/>
            </p:nvSpPr>
            <p:spPr>
              <a:xfrm rot="7320000">
                <a:off x="7758000" y="4651200"/>
                <a:ext cx="1058760" cy="493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25"/>
              <p:cNvSpPr/>
              <p:nvPr/>
            </p:nvSpPr>
            <p:spPr>
              <a:xfrm rot="7320000">
                <a:off x="8035920" y="4757760"/>
                <a:ext cx="749520" cy="279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26"/>
              <p:cNvSpPr/>
              <p:nvPr/>
            </p:nvSpPr>
            <p:spPr>
              <a:xfrm rot="7320000">
                <a:off x="8514360" y="4561200"/>
                <a:ext cx="99720" cy="187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27"/>
              <p:cNvSpPr/>
              <p:nvPr/>
            </p:nvSpPr>
            <p:spPr>
              <a:xfrm rot="7320000">
                <a:off x="815364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4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45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ffb8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13B78-48F7-468C-A4A3-A0C4145C6FA7}"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4.png"/><Relationship Id="rId12" Type="http://schemas.openxmlformats.org/officeDocument/2006/relationships/image" Target="../media/image10.png"/><Relationship Id="rId13" Type="http://schemas.openxmlformats.org/officeDocument/2006/relationships/slideLayout" Target="../slideLayouts/slideLayout73.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swilsa.lib.ia.us/CE/computerside" TargetMode="External"/><Relationship Id="rId2" Type="http://schemas.openxmlformats.org/officeDocument/2006/relationships/hyperlink" Target="mailto:kburns@swilsa.lib.ia.us" TargetMode="Externa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6" name="Picture 13" descr="_"/>
          <p:cNvPicPr/>
          <p:nvPr/>
        </p:nvPicPr>
        <p:blipFill>
          <a:blip r:embed="rId1"/>
          <a:stretch/>
        </p:blipFill>
        <p:spPr>
          <a:xfrm>
            <a:off x="-2666880" y="2895480"/>
            <a:ext cx="380880" cy="1047960"/>
          </a:xfrm>
          <a:prstGeom prst="rect">
            <a:avLst/>
          </a:prstGeom>
          <a:ln w="0">
            <a:noFill/>
          </a:ln>
        </p:spPr>
      </p:pic>
      <p:grpSp>
        <p:nvGrpSpPr>
          <p:cNvPr id="947" name="Group 20"/>
          <p:cNvGrpSpPr/>
          <p:nvPr/>
        </p:nvGrpSpPr>
        <p:grpSpPr>
          <a:xfrm>
            <a:off x="5110200" y="990720"/>
            <a:ext cx="2052720" cy="1047600"/>
            <a:chOff x="5110200" y="990720"/>
            <a:chExt cx="2052720" cy="1047600"/>
          </a:xfrm>
        </p:grpSpPr>
        <p:pic>
          <p:nvPicPr>
            <p:cNvPr id="948" name="Picture 11" descr="l"/>
            <p:cNvPicPr/>
            <p:nvPr/>
          </p:nvPicPr>
          <p:blipFill>
            <a:blip r:embed="rId2"/>
            <a:stretch/>
          </p:blipFill>
          <p:spPr>
            <a:xfrm>
              <a:off x="6558120" y="990720"/>
              <a:ext cx="257040" cy="1047600"/>
            </a:xfrm>
            <a:prstGeom prst="rect">
              <a:avLst/>
            </a:prstGeom>
            <a:ln w="0">
              <a:noFill/>
            </a:ln>
          </p:spPr>
        </p:pic>
        <p:pic>
          <p:nvPicPr>
            <p:cNvPr id="949" name="Picture 14" descr="T"/>
            <p:cNvPicPr/>
            <p:nvPr/>
          </p:nvPicPr>
          <p:blipFill>
            <a:blip r:embed="rId3"/>
            <a:stretch/>
          </p:blipFill>
          <p:spPr>
            <a:xfrm>
              <a:off x="5110200" y="990720"/>
              <a:ext cx="561960" cy="1047600"/>
            </a:xfrm>
            <a:prstGeom prst="rect">
              <a:avLst/>
            </a:prstGeom>
            <a:ln w="0">
              <a:noFill/>
            </a:ln>
          </p:spPr>
        </p:pic>
        <p:pic>
          <p:nvPicPr>
            <p:cNvPr id="950" name="Picture 15" descr="o"/>
            <p:cNvPicPr/>
            <p:nvPr/>
          </p:nvPicPr>
          <p:blipFill>
            <a:blip r:embed="rId4"/>
            <a:stretch/>
          </p:blipFill>
          <p:spPr>
            <a:xfrm>
              <a:off x="6129360" y="990720"/>
              <a:ext cx="457200" cy="1047600"/>
            </a:xfrm>
            <a:prstGeom prst="rect">
              <a:avLst/>
            </a:prstGeom>
            <a:ln w="0">
              <a:noFill/>
            </a:ln>
          </p:spPr>
        </p:pic>
        <p:pic>
          <p:nvPicPr>
            <p:cNvPr id="951" name="Picture 16" descr="o"/>
            <p:cNvPicPr/>
            <p:nvPr/>
          </p:nvPicPr>
          <p:blipFill>
            <a:blip r:embed="rId5"/>
            <a:stretch/>
          </p:blipFill>
          <p:spPr>
            <a:xfrm>
              <a:off x="5672160" y="990720"/>
              <a:ext cx="457200" cy="1047600"/>
            </a:xfrm>
            <a:prstGeom prst="rect">
              <a:avLst/>
            </a:prstGeom>
            <a:ln w="0">
              <a:noFill/>
            </a:ln>
          </p:spPr>
        </p:pic>
        <p:pic>
          <p:nvPicPr>
            <p:cNvPr id="952" name="Picture 18" descr="s"/>
            <p:cNvPicPr/>
            <p:nvPr/>
          </p:nvPicPr>
          <p:blipFill>
            <a:blip r:embed="rId6"/>
            <a:stretch/>
          </p:blipFill>
          <p:spPr>
            <a:xfrm>
              <a:off x="6810480" y="990720"/>
              <a:ext cx="352440" cy="1047600"/>
            </a:xfrm>
            <a:prstGeom prst="rect">
              <a:avLst/>
            </a:prstGeom>
            <a:ln w="0">
              <a:noFill/>
            </a:ln>
          </p:spPr>
        </p:pic>
      </p:grpSp>
      <p:grpSp>
        <p:nvGrpSpPr>
          <p:cNvPr id="953" name="Group 19"/>
          <p:cNvGrpSpPr/>
          <p:nvPr/>
        </p:nvGrpSpPr>
        <p:grpSpPr>
          <a:xfrm>
            <a:off x="2247840" y="990720"/>
            <a:ext cx="2552760" cy="1047600"/>
            <a:chOff x="2247840" y="990720"/>
            <a:chExt cx="2552760" cy="1047600"/>
          </a:xfrm>
        </p:grpSpPr>
        <p:pic>
          <p:nvPicPr>
            <p:cNvPr id="954" name="Picture 8" descr="o"/>
            <p:cNvPicPr/>
            <p:nvPr/>
          </p:nvPicPr>
          <p:blipFill>
            <a:blip r:embed="rId7"/>
            <a:stretch/>
          </p:blipFill>
          <p:spPr>
            <a:xfrm>
              <a:off x="3352680" y="990720"/>
              <a:ext cx="457200" cy="1047600"/>
            </a:xfrm>
            <a:prstGeom prst="rect">
              <a:avLst/>
            </a:prstGeom>
            <a:ln w="0">
              <a:noFill/>
            </a:ln>
          </p:spPr>
        </p:pic>
        <p:pic>
          <p:nvPicPr>
            <p:cNvPr id="955" name="Picture 9" descr="o"/>
            <p:cNvPicPr/>
            <p:nvPr/>
          </p:nvPicPr>
          <p:blipFill>
            <a:blip r:embed="rId8"/>
            <a:stretch/>
          </p:blipFill>
          <p:spPr>
            <a:xfrm>
              <a:off x="2895480" y="990720"/>
              <a:ext cx="457200" cy="1047600"/>
            </a:xfrm>
            <a:prstGeom prst="rect">
              <a:avLst/>
            </a:prstGeom>
            <a:ln w="0">
              <a:noFill/>
            </a:ln>
          </p:spPr>
        </p:pic>
        <p:pic>
          <p:nvPicPr>
            <p:cNvPr id="956" name="Picture 10" descr="g"/>
            <p:cNvPicPr/>
            <p:nvPr/>
          </p:nvPicPr>
          <p:blipFill>
            <a:blip r:embed="rId9"/>
            <a:stretch/>
          </p:blipFill>
          <p:spPr>
            <a:xfrm>
              <a:off x="3753000" y="990720"/>
              <a:ext cx="438120" cy="1047600"/>
            </a:xfrm>
            <a:prstGeom prst="rect">
              <a:avLst/>
            </a:prstGeom>
            <a:ln w="0">
              <a:noFill/>
            </a:ln>
          </p:spPr>
        </p:pic>
        <p:pic>
          <p:nvPicPr>
            <p:cNvPr id="957" name="Picture 12" descr="e"/>
            <p:cNvPicPr/>
            <p:nvPr/>
          </p:nvPicPr>
          <p:blipFill>
            <a:blip r:embed="rId10"/>
            <a:stretch/>
          </p:blipFill>
          <p:spPr>
            <a:xfrm>
              <a:off x="4410360" y="990720"/>
              <a:ext cx="390240" cy="1047600"/>
            </a:xfrm>
            <a:prstGeom prst="rect">
              <a:avLst/>
            </a:prstGeom>
            <a:ln w="0">
              <a:noFill/>
            </a:ln>
          </p:spPr>
        </p:pic>
        <p:pic>
          <p:nvPicPr>
            <p:cNvPr id="958" name="Picture 17" descr="l"/>
            <p:cNvPicPr/>
            <p:nvPr/>
          </p:nvPicPr>
          <p:blipFill>
            <a:blip r:embed="rId11"/>
            <a:stretch/>
          </p:blipFill>
          <p:spPr>
            <a:xfrm>
              <a:off x="4162320" y="990720"/>
              <a:ext cx="257040" cy="1047600"/>
            </a:xfrm>
            <a:prstGeom prst="rect">
              <a:avLst/>
            </a:prstGeom>
            <a:ln w="0">
              <a:noFill/>
            </a:ln>
          </p:spPr>
        </p:pic>
        <p:pic>
          <p:nvPicPr>
            <p:cNvPr id="959" name="Picture 7" descr="G"/>
            <p:cNvPicPr/>
            <p:nvPr/>
          </p:nvPicPr>
          <p:blipFill>
            <a:blip r:embed="rId12"/>
            <a:stretch/>
          </p:blipFill>
          <p:spPr>
            <a:xfrm>
              <a:off x="2247840" y="990720"/>
              <a:ext cx="647640" cy="1047600"/>
            </a:xfrm>
            <a:prstGeom prst="rect">
              <a:avLst/>
            </a:prstGeom>
            <a:ln w="0">
              <a:noFill/>
            </a:ln>
          </p:spPr>
        </p:pic>
      </p:gr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Get Documents In</a:t>
            </a:r>
            <a:endParaRPr b="0" lang="en-US" sz="4400" spc="-1" strike="noStrike">
              <a:solidFill>
                <a:srgbClr val="333399"/>
              </a:solidFill>
              <a:latin typeface="Comic Sans MS"/>
            </a:endParaRPr>
          </a:p>
        </p:txBody>
      </p:sp>
      <p:sp>
        <p:nvSpPr>
          <p:cNvPr id="976" name="PlaceHolder 2"/>
          <p:cNvSpPr>
            <a:spLocks noGrp="1"/>
          </p:cNvSpPr>
          <p:nvPr>
            <p:ph/>
          </p:nvPr>
        </p:nvSpPr>
        <p:spPr>
          <a:xfrm>
            <a:off x="761760" y="1218960"/>
            <a:ext cx="7543800" cy="3429000"/>
          </a:xfrm>
          <a:prstGeom prst="rect">
            <a:avLst/>
          </a:prstGeom>
          <a:noFill/>
          <a:ln w="0">
            <a:noFill/>
          </a:ln>
        </p:spPr>
        <p:txBody>
          <a:bodyPr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w  (create in Google Doc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pload  (from your compute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mail in (as attachments)</a:t>
            </a:r>
            <a:endParaRPr b="0" lang="en-US" sz="3600" spc="-1" strike="noStrike">
              <a:solidFill>
                <a:srgbClr val="000000"/>
              </a:solidFill>
              <a:latin typeface="Arial"/>
            </a:endParaRPr>
          </a:p>
        </p:txBody>
      </p:sp>
      <p:pic>
        <p:nvPicPr>
          <p:cNvPr id="977" name="Picture 10" descr=""/>
          <p:cNvPicPr/>
          <p:nvPr/>
        </p:nvPicPr>
        <p:blipFill>
          <a:blip r:embed="rId1"/>
          <a:stretch/>
        </p:blipFill>
        <p:spPr>
          <a:xfrm>
            <a:off x="380880" y="4952880"/>
            <a:ext cx="8534520" cy="439920"/>
          </a:xfrm>
          <a:prstGeom prst="rect">
            <a:avLst/>
          </a:prstGeom>
          <a:ln w="0">
            <a:noFill/>
          </a:ln>
        </p:spPr>
      </p:pic>
    </p:spTree>
  </p:cSld>
  <p:transition spd="med">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New document</a:t>
            </a:r>
            <a:endParaRPr b="0" lang="en-US" sz="4400" spc="-1" strike="noStrike">
              <a:solidFill>
                <a:srgbClr val="333399"/>
              </a:solidFill>
              <a:latin typeface="Comic Sans MS"/>
            </a:endParaRPr>
          </a:p>
        </p:txBody>
      </p:sp>
      <p:pic>
        <p:nvPicPr>
          <p:cNvPr id="979" name="Picture 5" descr=""/>
          <p:cNvPicPr/>
          <p:nvPr/>
        </p:nvPicPr>
        <p:blipFill>
          <a:blip r:embed="rId1"/>
          <a:stretch/>
        </p:blipFill>
        <p:spPr>
          <a:xfrm>
            <a:off x="228600" y="1600200"/>
            <a:ext cx="8381880" cy="3021120"/>
          </a:xfrm>
          <a:prstGeom prst="rect">
            <a:avLst/>
          </a:prstGeom>
          <a:ln w="0">
            <a:noFill/>
          </a:ln>
        </p:spPr>
      </p:pic>
      <p:pic>
        <p:nvPicPr>
          <p:cNvPr id="980" name="Picture 7" descr=""/>
          <p:cNvPicPr/>
          <p:nvPr/>
        </p:nvPicPr>
        <p:blipFill>
          <a:blip r:embed="rId2"/>
          <a:stretch/>
        </p:blipFill>
        <p:spPr>
          <a:xfrm>
            <a:off x="3429000" y="3886200"/>
            <a:ext cx="5257800" cy="2467080"/>
          </a:xfrm>
          <a:prstGeom prst="rect">
            <a:avLst/>
          </a:prstGeom>
          <a:ln w="0">
            <a:noFill/>
          </a:ln>
        </p:spPr>
      </p:pic>
    </p:spTree>
  </p:cSld>
  <p:transition spd="med">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Editing a document</a:t>
            </a:r>
            <a:endParaRPr b="0" lang="en-US" sz="4400" spc="-1" strike="noStrike">
              <a:solidFill>
                <a:srgbClr val="333399"/>
              </a:solidFill>
              <a:latin typeface="Comic Sans MS"/>
            </a:endParaRPr>
          </a:p>
        </p:txBody>
      </p:sp>
      <p:sp>
        <p:nvSpPr>
          <p:cNvPr id="982" name="PlaceHolder 2"/>
          <p:cNvSpPr>
            <a:spLocks noGrp="1"/>
          </p:cNvSpPr>
          <p:nvPr>
            <p:ph/>
          </p:nvPr>
        </p:nvSpPr>
        <p:spPr>
          <a:xfrm>
            <a:off x="685800" y="1219320"/>
            <a:ext cx="7696080" cy="3047760"/>
          </a:xfrm>
          <a:prstGeom prst="rect">
            <a:avLst/>
          </a:prstGeom>
          <a:noFill/>
          <a:ln w="0">
            <a:noFill/>
          </a:ln>
        </p:spPr>
        <p:txBody>
          <a:bodyPr anchor="t">
            <a:normAutofit/>
          </a:bodyPr>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dit by yourself</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vite collaborators</a:t>
            </a: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View only  </a:t>
            </a:r>
            <a:r>
              <a:rPr b="0" i="1" lang="en-US" sz="2400" spc="-1" strike="noStrike">
                <a:solidFill>
                  <a:srgbClr val="000000"/>
                </a:solidFill>
                <a:latin typeface="Arial"/>
              </a:rPr>
              <a:t>-OR-</a:t>
            </a:r>
            <a:endParaRPr b="0" lang="en-US" sz="24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Edit</a:t>
            </a:r>
            <a:endParaRPr b="0" lang="en-US" sz="3600" spc="-1" strike="noStrike">
              <a:solidFill>
                <a:srgbClr val="000000"/>
              </a:solidFill>
              <a:latin typeface="Arial"/>
            </a:endParaRPr>
          </a:p>
        </p:txBody>
      </p:sp>
      <p:pic>
        <p:nvPicPr>
          <p:cNvPr id="983" name="Picture 4" descr=""/>
          <p:cNvPicPr/>
          <p:nvPr/>
        </p:nvPicPr>
        <p:blipFill>
          <a:blip r:embed="rId1"/>
          <a:stretch/>
        </p:blipFill>
        <p:spPr>
          <a:xfrm>
            <a:off x="3200400" y="4267080"/>
            <a:ext cx="5257800" cy="1441440"/>
          </a:xfrm>
          <a:prstGeom prst="rect">
            <a:avLst/>
          </a:prstGeom>
          <a:ln w="0">
            <a:noFill/>
          </a:ln>
        </p:spPr>
      </p:pic>
      <p:sp>
        <p:nvSpPr>
          <p:cNvPr id="984" name="Oval 6"/>
          <p:cNvSpPr/>
          <p:nvPr/>
        </p:nvSpPr>
        <p:spPr>
          <a:xfrm>
            <a:off x="6095880" y="4648320"/>
            <a:ext cx="1524240" cy="129528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hare a document</a:t>
            </a:r>
            <a:endParaRPr b="0" lang="en-US" sz="4400" spc="-1" strike="noStrike">
              <a:solidFill>
                <a:srgbClr val="333399"/>
              </a:solidFill>
              <a:latin typeface="Comic Sans MS"/>
            </a:endParaRPr>
          </a:p>
        </p:txBody>
      </p:sp>
      <p:pic>
        <p:nvPicPr>
          <p:cNvPr id="986" name="Picture 4" descr=""/>
          <p:cNvPicPr/>
          <p:nvPr/>
        </p:nvPicPr>
        <p:blipFill>
          <a:blip r:embed="rId1"/>
          <a:stretch/>
        </p:blipFill>
        <p:spPr>
          <a:xfrm>
            <a:off x="152280" y="1066680"/>
            <a:ext cx="8763120" cy="4137120"/>
          </a:xfrm>
          <a:prstGeom prst="rect">
            <a:avLst/>
          </a:prstGeom>
          <a:ln w="0">
            <a:noFill/>
          </a:ln>
        </p:spPr>
      </p:pic>
      <p:pic>
        <p:nvPicPr>
          <p:cNvPr id="987" name="Picture 6" descr=""/>
          <p:cNvPicPr/>
          <p:nvPr/>
        </p:nvPicPr>
        <p:blipFill>
          <a:blip r:embed="rId2"/>
          <a:stretch/>
        </p:blipFill>
        <p:spPr>
          <a:xfrm>
            <a:off x="4038480" y="3352680"/>
            <a:ext cx="4191120" cy="3103560"/>
          </a:xfrm>
          <a:prstGeom prst="rect">
            <a:avLst/>
          </a:prstGeom>
          <a:ln w="0">
            <a:noFill/>
          </a:ln>
        </p:spPr>
      </p:pic>
    </p:spTree>
  </p:cSld>
  <p:transition spd="med">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Edit a document</a:t>
            </a:r>
            <a:endParaRPr b="0" lang="en-US" sz="4400" spc="-1" strike="noStrike">
              <a:solidFill>
                <a:srgbClr val="333399"/>
              </a:solidFill>
              <a:latin typeface="Comic Sans MS"/>
            </a:endParaRPr>
          </a:p>
        </p:txBody>
      </p:sp>
      <p:pic>
        <p:nvPicPr>
          <p:cNvPr id="989" name="Picture 8" descr=""/>
          <p:cNvPicPr/>
          <p:nvPr/>
        </p:nvPicPr>
        <p:blipFill>
          <a:blip r:embed="rId1"/>
          <a:stretch/>
        </p:blipFill>
        <p:spPr>
          <a:xfrm>
            <a:off x="380880" y="1523880"/>
            <a:ext cx="8229600" cy="4083120"/>
          </a:xfrm>
          <a:prstGeom prst="rect">
            <a:avLst/>
          </a:prstGeom>
          <a:ln w="0">
            <a:noFill/>
          </a:ln>
        </p:spPr>
      </p:pic>
    </p:spTree>
  </p:cSld>
  <p:transition spd="med">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Previous Revisions…</a:t>
            </a:r>
            <a:endParaRPr b="0" lang="en-US" sz="4400" spc="-1" strike="noStrike">
              <a:solidFill>
                <a:srgbClr val="333399"/>
              </a:solidFill>
              <a:latin typeface="Comic Sans MS"/>
            </a:endParaRPr>
          </a:p>
        </p:txBody>
      </p:sp>
      <p:pic>
        <p:nvPicPr>
          <p:cNvPr id="991" name="Picture 4" descr=""/>
          <p:cNvPicPr/>
          <p:nvPr/>
        </p:nvPicPr>
        <p:blipFill>
          <a:blip r:embed="rId1"/>
          <a:stretch/>
        </p:blipFill>
        <p:spPr>
          <a:xfrm>
            <a:off x="457200" y="1447920"/>
            <a:ext cx="8686800" cy="4087800"/>
          </a:xfrm>
          <a:prstGeom prst="rect">
            <a:avLst/>
          </a:prstGeom>
          <a:ln w="0">
            <a:noFill/>
          </a:ln>
        </p:spPr>
      </p:pic>
    </p:spTree>
  </p:cSld>
  <p:transition spd="med">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preadsheets</a:t>
            </a:r>
            <a:endParaRPr b="0" lang="en-US" sz="4400" spc="-1" strike="noStrike">
              <a:solidFill>
                <a:srgbClr val="333399"/>
              </a:solidFill>
              <a:latin typeface="Comic Sans MS"/>
            </a:endParaRPr>
          </a:p>
        </p:txBody>
      </p:sp>
      <p:pic>
        <p:nvPicPr>
          <p:cNvPr id="993" name="Picture 4" descr=""/>
          <p:cNvPicPr/>
          <p:nvPr/>
        </p:nvPicPr>
        <p:blipFill>
          <a:blip r:embed="rId1"/>
          <a:stretch/>
        </p:blipFill>
        <p:spPr>
          <a:xfrm>
            <a:off x="533520" y="1752480"/>
            <a:ext cx="8229600" cy="3764160"/>
          </a:xfrm>
          <a:prstGeom prst="rect">
            <a:avLst/>
          </a:prstGeom>
          <a:ln w="0">
            <a:noFill/>
          </a:ln>
        </p:spPr>
      </p:pic>
    </p:spTree>
  </p:cSld>
  <p:transition spd="med">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Discussing a spreadsheet</a:t>
            </a:r>
            <a:endParaRPr b="0" lang="en-US" sz="4400" spc="-1" strike="noStrike">
              <a:solidFill>
                <a:srgbClr val="333399"/>
              </a:solidFill>
              <a:latin typeface="Comic Sans MS"/>
            </a:endParaRPr>
          </a:p>
        </p:txBody>
      </p:sp>
      <p:pic>
        <p:nvPicPr>
          <p:cNvPr id="995" name="Picture 4" descr=""/>
          <p:cNvPicPr/>
          <p:nvPr/>
        </p:nvPicPr>
        <p:blipFill>
          <a:blip r:embed="rId1"/>
          <a:stretch/>
        </p:blipFill>
        <p:spPr>
          <a:xfrm>
            <a:off x="685800" y="1371600"/>
            <a:ext cx="8001000" cy="4200480"/>
          </a:xfrm>
          <a:prstGeom prst="rect">
            <a:avLst/>
          </a:prstGeom>
          <a:ln w="0">
            <a:noFill/>
          </a:ln>
        </p:spPr>
      </p:pic>
    </p:spTree>
  </p:cSld>
  <p:transition spd="med">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Presentations</a:t>
            </a:r>
            <a:endParaRPr b="0" lang="en-US" sz="4400" spc="-1" strike="noStrike">
              <a:solidFill>
                <a:srgbClr val="333399"/>
              </a:solidFill>
              <a:latin typeface="Comic Sans MS"/>
            </a:endParaRPr>
          </a:p>
        </p:txBody>
      </p:sp>
      <p:pic>
        <p:nvPicPr>
          <p:cNvPr id="997" name="Picture 4" descr=""/>
          <p:cNvPicPr/>
          <p:nvPr/>
        </p:nvPicPr>
        <p:blipFill>
          <a:blip r:embed="rId1"/>
          <a:stretch/>
        </p:blipFill>
        <p:spPr>
          <a:xfrm>
            <a:off x="457200" y="1447920"/>
            <a:ext cx="8305920" cy="4279680"/>
          </a:xfrm>
          <a:prstGeom prst="rect">
            <a:avLst/>
          </a:prstGeom>
          <a:ln w="0">
            <a:noFill/>
          </a:ln>
        </p:spPr>
      </p:pic>
    </p:spTree>
  </p:cSld>
  <p:transition spd="med">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Getting Documents Out</a:t>
            </a:r>
            <a:endParaRPr b="0" lang="en-US" sz="4400" spc="-1" strike="noStrike">
              <a:solidFill>
                <a:srgbClr val="333399"/>
              </a:solidFill>
              <a:latin typeface="Comic Sans MS"/>
            </a:endParaRPr>
          </a:p>
        </p:txBody>
      </p:sp>
      <p:sp>
        <p:nvSpPr>
          <p:cNvPr id="999" name=""/>
          <p:cNvSpPr txBox="1"/>
          <p:nvPr/>
        </p:nvSpPr>
        <p:spPr>
          <a:xfrm>
            <a:off x="533520" y="1523880"/>
            <a:ext cx="8229600" cy="4525920"/>
          </a:xfrm>
          <a:prstGeom prst="rect">
            <a:avLst/>
          </a:prstGeom>
          <a:noFill/>
          <a:ln w="0">
            <a:noFill/>
          </a:ln>
        </p:spPr>
        <p:txBody>
          <a:bodyPr anchor="t">
            <a:normAutofit/>
          </a:bodyPr>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nt</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ail</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ort (save to computer, etc.)</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blish</a:t>
            </a:r>
            <a:endParaRPr b="0" lang="en-US" sz="4000" spc="-1" strike="noStrike">
              <a:solidFill>
                <a:srgbClr val="000000"/>
              </a:solidFill>
              <a:latin typeface="Arial"/>
            </a:endParaRPr>
          </a:p>
        </p:txBody>
      </p:sp>
      <p:sp>
        <p:nvSpPr>
          <p:cNvPr id="1000" name="Text Box 63"/>
          <p:cNvSpPr/>
          <p:nvPr/>
        </p:nvSpPr>
        <p:spPr>
          <a:xfrm>
            <a:off x="685800" y="1447920"/>
            <a:ext cx="7543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Today’s session</a:t>
            </a:r>
            <a:endParaRPr b="0" lang="en-US" sz="4400" spc="-1" strike="noStrike">
              <a:solidFill>
                <a:srgbClr val="333399"/>
              </a:solidFill>
              <a:latin typeface="Comic Sans MS"/>
            </a:endParaRPr>
          </a:p>
        </p:txBody>
      </p:sp>
      <p:sp>
        <p:nvSpPr>
          <p:cNvPr id="961" name=""/>
          <p:cNvSpPr txBox="1"/>
          <p:nvPr/>
        </p:nvSpPr>
        <p:spPr>
          <a:xfrm>
            <a:off x="533520" y="1523880"/>
            <a:ext cx="8229600" cy="4525920"/>
          </a:xfrm>
          <a:prstGeom prst="rect">
            <a:avLst/>
          </a:prstGeom>
          <a:noFill/>
          <a:ln w="0">
            <a:noFill/>
          </a:ln>
        </p:spPr>
        <p:txBody>
          <a:bodyPr anchor="t">
            <a:normAutofit/>
          </a:bodyPr>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hy and How of Google Docs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mo</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actice  (if time!)</a:t>
            </a:r>
            <a:endParaRPr b="0" lang="en-US" sz="4000" spc="-1" strike="noStrike">
              <a:solidFill>
                <a:srgbClr val="000000"/>
              </a:solidFill>
              <a:latin typeface="Arial"/>
            </a:endParaRPr>
          </a:p>
        </p:txBody>
      </p:sp>
    </p:spTree>
  </p:cSld>
  <p:transition spd="med">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Formats  (export/save to computer)</a:t>
            </a:r>
            <a:endParaRPr b="0" lang="en-US" sz="4400" spc="-1" strike="noStrike">
              <a:solidFill>
                <a:srgbClr val="333399"/>
              </a:solidFill>
              <a:latin typeface="Comic Sans MS"/>
            </a:endParaRPr>
          </a:p>
        </p:txBody>
      </p:sp>
      <p:sp>
        <p:nvSpPr>
          <p:cNvPr id="1002" name=""/>
          <p:cNvSpPr txBox="1"/>
          <p:nvPr/>
        </p:nvSpPr>
        <p:spPr>
          <a:xfrm>
            <a:off x="533520" y="1523880"/>
            <a:ext cx="8229600" cy="4525920"/>
          </a:xfrm>
          <a:prstGeom prst="rect">
            <a:avLst/>
          </a:prstGeom>
          <a:noFill/>
          <a:ln w="0">
            <a:noFill/>
          </a:ln>
        </p:spPr>
        <p:txBody>
          <a:bodyPr anchor="t">
            <a:normAutofit fontScale="99000"/>
          </a:bodyPr>
          <a:p>
            <a:pPr marL="339480" indent="-3394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cuments:</a:t>
            </a:r>
            <a:endParaRPr b="0" lang="en-US" sz="3600" spc="-1" strike="noStrike">
              <a:solidFill>
                <a:srgbClr val="000000"/>
              </a:solidFill>
              <a:latin typeface="Arial"/>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tml, rtf, Word, Open Office, pdf, text</a:t>
            </a:r>
            <a:endParaRPr b="0" lang="en-US" sz="3200" spc="-1" strike="noStrike">
              <a:solidFill>
                <a:srgbClr val="000000"/>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readsheets</a:t>
            </a:r>
            <a:endParaRPr b="0" lang="en-US" sz="3600" spc="-1" strike="noStrike">
              <a:solidFill>
                <a:srgbClr val="000000"/>
              </a:solidFill>
              <a:latin typeface="Arial"/>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sv, ods, html, pdf, xls, txt</a:t>
            </a:r>
            <a:endParaRPr b="0" lang="en-US" sz="3200" spc="-1" strike="noStrike">
              <a:solidFill>
                <a:srgbClr val="000000"/>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sentations</a:t>
            </a:r>
            <a:endParaRPr b="0" lang="en-US" sz="3600" spc="-1" strike="noStrike">
              <a:solidFill>
                <a:srgbClr val="000000"/>
              </a:solidFill>
              <a:latin typeface="Arial"/>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df</a:t>
            </a:r>
            <a:endParaRPr b="0" lang="en-US" sz="3200" spc="-1" strike="noStrike">
              <a:solidFill>
                <a:srgbClr val="000000"/>
              </a:solidFill>
              <a:latin typeface="Arial"/>
            </a:endParaRPr>
          </a:p>
        </p:txBody>
      </p:sp>
    </p:spTree>
  </p:cSld>
  <p:transition spd="med">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Organization in Google Docs</a:t>
            </a:r>
            <a:endParaRPr b="0" lang="en-US" sz="4400" spc="-1" strike="noStrike">
              <a:solidFill>
                <a:srgbClr val="333399"/>
              </a:solidFill>
              <a:latin typeface="Comic Sans MS"/>
            </a:endParaRPr>
          </a:p>
        </p:txBody>
      </p:sp>
      <p:pic>
        <p:nvPicPr>
          <p:cNvPr id="1004" name="Picture 4" descr=""/>
          <p:cNvPicPr/>
          <p:nvPr/>
        </p:nvPicPr>
        <p:blipFill>
          <a:blip r:embed="rId1"/>
          <a:stretch/>
        </p:blipFill>
        <p:spPr>
          <a:xfrm>
            <a:off x="380880" y="1371600"/>
            <a:ext cx="8534520" cy="4508640"/>
          </a:xfrm>
          <a:prstGeom prst="rect">
            <a:avLst/>
          </a:prstGeom>
          <a:ln w="0">
            <a:noFill/>
          </a:ln>
        </p:spPr>
      </p:pic>
    </p:spTree>
  </p:cSld>
  <p:transition spd="med">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Comic Sans MS"/>
              </a:rPr>
              <a:t>Other features</a:t>
            </a:r>
            <a:br>
              <a:rPr sz="3800"/>
            </a:br>
            <a:endParaRPr b="0" lang="en-US" sz="3800" spc="-1" strike="noStrike">
              <a:solidFill>
                <a:srgbClr val="333399"/>
              </a:solidFill>
              <a:latin typeface="Comic Sans MS"/>
            </a:endParaRPr>
          </a:p>
        </p:txBody>
      </p:sp>
      <p:sp>
        <p:nvSpPr>
          <p:cNvPr id="1006" name=""/>
          <p:cNvSpPr txBox="1"/>
          <p:nvPr/>
        </p:nvSpPr>
        <p:spPr>
          <a:xfrm>
            <a:off x="533520" y="152388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documents to your Google Doc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pload—scroll down to see unique</a:t>
            </a:r>
            <a:br>
              <a:rPr sz="3200"/>
            </a:br>
            <a:r>
              <a:rPr b="0" lang="en-US" sz="3200" spc="-1" strike="noStrike">
                <a:solidFill>
                  <a:srgbClr val="000000"/>
                </a:solidFill>
                <a:latin typeface="Arial"/>
              </a:rPr>
              <a:t>    e-mail address for your Google Doc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 docs to a blo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S feeds of your public Google Docs)</a:t>
            </a:r>
            <a:endParaRPr b="0" lang="en-US" sz="3200" spc="-1" strike="noStrike">
              <a:solidFill>
                <a:srgbClr val="000000"/>
              </a:solidFill>
              <a:latin typeface="Arial"/>
            </a:endParaRPr>
          </a:p>
        </p:txBody>
      </p:sp>
    </p:spTree>
  </p:cSld>
  <p:transition spd="med">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ome Numbers…</a:t>
            </a:r>
            <a:endParaRPr b="0" lang="en-US" sz="4400" spc="-1" strike="noStrike">
              <a:solidFill>
                <a:srgbClr val="333399"/>
              </a:solidFill>
              <a:latin typeface="Comic Sans MS"/>
            </a:endParaRPr>
          </a:p>
        </p:txBody>
      </p:sp>
      <p:sp>
        <p:nvSpPr>
          <p:cNvPr id="1008" name=""/>
          <p:cNvSpPr txBox="1"/>
          <p:nvPr/>
        </p:nvSpPr>
        <p:spPr>
          <a:xfrm>
            <a:off x="762120" y="1143000"/>
            <a:ext cx="7162560" cy="5029200"/>
          </a:xfrm>
          <a:prstGeom prst="rect">
            <a:avLst/>
          </a:prstGeom>
          <a:noFill/>
          <a:ln w="0">
            <a:noFill/>
          </a:ln>
        </p:spPr>
        <p:txBody>
          <a:bodyPr anchor="t">
            <a:normAutofit/>
          </a:bodyPr>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 people can edit a document or presentation at one time,</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50 can edit a spreadsheet at one time</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Limits:</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00 documents per account</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00 images per account</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s:  up to 500 KB each</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ations: </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10 MB from computer</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2 MB from the web</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500 KB via e-mail</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readsheets:  up to 1 MB</a:t>
            </a:r>
            <a:endParaRPr b="0" lang="en-US" sz="2600" spc="-1" strike="noStrike">
              <a:solidFill>
                <a:srgbClr val="000000"/>
              </a:solidFill>
              <a:latin typeface="Arial"/>
            </a:endParaRPr>
          </a:p>
        </p:txBody>
      </p:sp>
    </p:spTree>
  </p:cSld>
  <p:transition spd="med">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More resources</a:t>
            </a:r>
            <a:endParaRPr b="0" lang="en-US" sz="4400" spc="-1" strike="noStrike">
              <a:solidFill>
                <a:srgbClr val="333399"/>
              </a:solidFill>
              <a:latin typeface="Comic Sans MS"/>
            </a:endParaRPr>
          </a:p>
        </p:txBody>
      </p:sp>
      <p:sp>
        <p:nvSpPr>
          <p:cNvPr id="1010" name=""/>
          <p:cNvSpPr txBox="1"/>
          <p:nvPr/>
        </p:nvSpPr>
        <p:spPr>
          <a:xfrm>
            <a:off x="533520" y="152388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hat’s support pag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swilsa.lib.ia.us/CE/computersid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en Burn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kburns@swilsa.lib.ia.u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ltlibrarian on Yahoo, MSN, AIM</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What is Google Documents?</a:t>
            </a:r>
            <a:endParaRPr b="0" lang="en-US" sz="4400" spc="-1" strike="noStrike">
              <a:solidFill>
                <a:srgbClr val="333399"/>
              </a:solidFill>
              <a:latin typeface="Comic Sans MS"/>
            </a:endParaRPr>
          </a:p>
        </p:txBody>
      </p:sp>
      <p:sp>
        <p:nvSpPr>
          <p:cNvPr id="963" name=""/>
          <p:cNvSpPr txBox="1"/>
          <p:nvPr/>
        </p:nvSpPr>
        <p:spPr>
          <a:xfrm>
            <a:off x="456840" y="1599840"/>
            <a:ext cx="8381880" cy="453060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workspace</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d processing, presentations, spreadsheet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ite collaborators to shar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iewing documen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diting documents</a:t>
            </a:r>
            <a:endParaRPr b="0" lang="en-US" sz="3200" spc="-1" strike="noStrike">
              <a:solidFill>
                <a:srgbClr val="000000"/>
              </a:solidFill>
              <a:latin typeface="Arial"/>
            </a:endParaRPr>
          </a:p>
        </p:txBody>
      </p:sp>
    </p:spTree>
  </p:cSld>
  <p:transition spd="med">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Google Docs in the Library?</a:t>
            </a:r>
            <a:endParaRPr b="0" lang="en-US" sz="4400" spc="-1" strike="noStrike">
              <a:solidFill>
                <a:srgbClr val="333399"/>
              </a:solidFill>
              <a:latin typeface="Comic Sans MS"/>
            </a:endParaRPr>
          </a:p>
        </p:txBody>
      </p:sp>
      <p:sp>
        <p:nvSpPr>
          <p:cNvPr id="965" name=""/>
          <p:cNvSpPr txBox="1"/>
          <p:nvPr/>
        </p:nvSpPr>
        <p:spPr>
          <a:xfrm>
            <a:off x="533520" y="1523880"/>
            <a:ext cx="822960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Advantage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rk on docs from any computer with Internet connection</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aboration—multiple editors, simultaneously</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edits are seen by everyone immediately</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matically save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revert” to previous versions</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Disadvantage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limitations on export formats</a:t>
            </a:r>
            <a:endParaRPr b="0" lang="en-US" sz="2600" spc="-1" strike="noStrike">
              <a:solidFill>
                <a:srgbClr val="000000"/>
              </a:solidFill>
              <a:latin typeface="Arial"/>
            </a:endParaRPr>
          </a:p>
        </p:txBody>
      </p:sp>
    </p:spTree>
  </p:cSld>
  <p:transition spd="med">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What might it be used for?</a:t>
            </a:r>
            <a:endParaRPr b="0" lang="en-US" sz="4400" spc="-1" strike="noStrike">
              <a:solidFill>
                <a:srgbClr val="333399"/>
              </a:solidFill>
              <a:latin typeface="Comic Sans MS"/>
            </a:endParaRPr>
          </a:p>
        </p:txBody>
      </p:sp>
      <p:sp>
        <p:nvSpPr>
          <p:cNvPr id="967" name=""/>
          <p:cNvSpPr txBox="1"/>
          <p:nvPr/>
        </p:nvSpPr>
        <p:spPr>
          <a:xfrm>
            <a:off x="457200" y="1218960"/>
            <a:ext cx="8229600" cy="4911480"/>
          </a:xfrm>
          <a:prstGeom prst="rect">
            <a:avLst/>
          </a:prstGeom>
          <a:noFill/>
          <a:ln w="0">
            <a:noFill/>
          </a:ln>
        </p:spPr>
        <p:txBody>
          <a:bodyPr anchor="t">
            <a:normAutofit fontScale="94000"/>
          </a:bodyPr>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sletter—share the authorship!</a:t>
            </a:r>
            <a:endParaRPr b="0" lang="en-US" sz="3200" spc="-1" strike="noStrike">
              <a:solidFill>
                <a:srgbClr val="000000"/>
              </a:solidFill>
              <a:latin typeface="Arial"/>
            </a:endParaRPr>
          </a:p>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uthored blog posts</a:t>
            </a:r>
            <a:endParaRPr b="0" lang="en-US" sz="3200" spc="-1" strike="noStrike">
              <a:solidFill>
                <a:srgbClr val="000000"/>
              </a:solidFill>
              <a:latin typeface="Arial"/>
            </a:endParaRPr>
          </a:p>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y budget presentation; each library contribute</a:t>
            </a:r>
            <a:endParaRPr b="0" lang="en-US" sz="3200" spc="-1" strike="noStrike">
              <a:solidFill>
                <a:srgbClr val="000000"/>
              </a:solidFill>
              <a:latin typeface="Arial"/>
            </a:endParaRPr>
          </a:p>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revise procedure manual</a:t>
            </a:r>
            <a:endParaRPr b="0" lang="en-US" sz="3200" spc="-1" strike="noStrike">
              <a:solidFill>
                <a:srgbClr val="000000"/>
              </a:solidFill>
              <a:latin typeface="Arial"/>
            </a:endParaRPr>
          </a:p>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gendas for meetings</a:t>
            </a:r>
            <a:endParaRPr b="0" lang="en-US" sz="3200" spc="-1" strike="noStrike">
              <a:solidFill>
                <a:srgbClr val="000000"/>
              </a:solidFill>
              <a:latin typeface="Arial"/>
            </a:endParaRPr>
          </a:p>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projects—organize, manage</a:t>
            </a:r>
            <a:endParaRPr b="0" lang="en-US" sz="3200" spc="-1" strike="noStrike">
              <a:solidFill>
                <a:srgbClr val="000000"/>
              </a:solidFill>
              <a:latin typeface="Arial"/>
            </a:endParaRPr>
          </a:p>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ttee work</a:t>
            </a:r>
            <a:endParaRPr b="0" lang="en-US" sz="3200" spc="-1" strike="noStrike">
              <a:solidFill>
                <a:srgbClr val="000000"/>
              </a:solidFill>
              <a:latin typeface="Arial"/>
            </a:endParaRPr>
          </a:p>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your own documents “handy” for access from any Internet computer</a:t>
            </a:r>
            <a:endParaRPr b="0" lang="en-US" sz="3200" spc="-1" strike="noStrike">
              <a:solidFill>
                <a:srgbClr val="000000"/>
              </a:solidFill>
              <a:latin typeface="Arial"/>
            </a:endParaRPr>
          </a:p>
        </p:txBody>
      </p:sp>
    </p:spTree>
  </p:cSld>
  <p:transition spd="med">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85800" y="1523520"/>
            <a:ext cx="785160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How does Google Docs work?</a:t>
            </a:r>
            <a:endParaRPr b="0" lang="en-US" sz="4400" spc="-1" strike="noStrike">
              <a:solidFill>
                <a:srgbClr val="333399"/>
              </a:solidFill>
              <a:latin typeface="Comic Sans MS"/>
            </a:endParaRPr>
          </a:p>
        </p:txBody>
      </p:sp>
    </p:spTree>
  </p:cSld>
  <p:transition spd="med">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Google Docs Bare Bones</a:t>
            </a:r>
            <a:endParaRPr b="0" lang="en-US" sz="4400" spc="-1" strike="noStrike">
              <a:solidFill>
                <a:srgbClr val="333399"/>
              </a:solidFill>
              <a:latin typeface="Comic Sans MS"/>
            </a:endParaRPr>
          </a:p>
        </p:txBody>
      </p:sp>
      <p:sp>
        <p:nvSpPr>
          <p:cNvPr id="970" name=""/>
          <p:cNvSpPr txBox="1"/>
          <p:nvPr/>
        </p:nvSpPr>
        <p:spPr>
          <a:xfrm>
            <a:off x="533520" y="1523880"/>
            <a:ext cx="8229600" cy="4525920"/>
          </a:xfrm>
          <a:prstGeom prst="rect">
            <a:avLst/>
          </a:prstGeom>
          <a:noFill/>
          <a:ln w="0">
            <a:noFill/>
          </a:ln>
        </p:spPr>
        <p:txBody>
          <a:bodyPr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t Documents In</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dit Documents (shared editing, if desired)</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Get Documents Out” to use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ublish, save, distribute…)</a:t>
            </a:r>
            <a:endParaRPr b="0" lang="en-US" sz="3600" spc="-1" strike="noStrike">
              <a:solidFill>
                <a:srgbClr val="000000"/>
              </a:solidFill>
              <a:latin typeface="Arial"/>
            </a:endParaRPr>
          </a:p>
        </p:txBody>
      </p:sp>
    </p:spTree>
  </p:cSld>
  <p:transition spd="med">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First things first…</a:t>
            </a:r>
            <a:endParaRPr b="0" lang="en-US" sz="4400" spc="-1" strike="noStrike">
              <a:solidFill>
                <a:srgbClr val="333399"/>
              </a:solidFill>
              <a:latin typeface="Comic Sans MS"/>
            </a:endParaRPr>
          </a:p>
        </p:txBody>
      </p:sp>
      <p:pic>
        <p:nvPicPr>
          <p:cNvPr id="972" name="Picture 4" descr=""/>
          <p:cNvPicPr/>
          <p:nvPr/>
        </p:nvPicPr>
        <p:blipFill>
          <a:blip r:embed="rId1"/>
          <a:stretch/>
        </p:blipFill>
        <p:spPr>
          <a:xfrm>
            <a:off x="380880" y="1447920"/>
            <a:ext cx="8458200" cy="4078080"/>
          </a:xfrm>
          <a:prstGeom prst="rect">
            <a:avLst/>
          </a:prstGeom>
          <a:ln w="0">
            <a:noFill/>
          </a:ln>
        </p:spPr>
      </p:pic>
    </p:spTree>
  </p:cSld>
  <p:transition spd="med">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Docs Home</a:t>
            </a:r>
            <a:endParaRPr b="0" lang="en-US" sz="4400" spc="-1" strike="noStrike">
              <a:solidFill>
                <a:srgbClr val="333399"/>
              </a:solidFill>
              <a:latin typeface="Comic Sans MS"/>
            </a:endParaRPr>
          </a:p>
        </p:txBody>
      </p:sp>
      <p:pic>
        <p:nvPicPr>
          <p:cNvPr id="974" name="Picture 8" descr=""/>
          <p:cNvPicPr/>
          <p:nvPr/>
        </p:nvPicPr>
        <p:blipFill>
          <a:blip r:embed="rId1"/>
          <a:stretch/>
        </p:blipFill>
        <p:spPr>
          <a:xfrm>
            <a:off x="457200" y="1447920"/>
            <a:ext cx="8229600" cy="3970080"/>
          </a:xfrm>
          <a:prstGeom prst="rect">
            <a:avLst/>
          </a:prstGeom>
          <a:ln w="0">
            <a:noFill/>
          </a:ln>
        </p:spPr>
      </p:pic>
    </p:spTree>
  </p:cSld>
  <p:transition spd="med">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1T20:43:22Z</dcterms:created>
  <dc:creator> </dc:creator>
  <dc:description/>
  <dc:language>en-US</dc:language>
  <cp:lastModifiedBy>rgibbs</cp:lastModifiedBy>
  <cp:lastPrinted>2010-06-14T14:39:27Z</cp:lastPrinted>
  <dcterms:modified xsi:type="dcterms:W3CDTF">2010-06-14T15:46:02Z</dcterms:modified>
  <cp:revision>42</cp:revision>
  <dc:subject/>
  <dc:title>Google Docs  Rocks!</dc:title>
</cp:coreProperties>
</file>